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.jpeg" ContentType="image/jpeg"/>
  <Override PartName="/ppt/media/image21.png" ContentType="image/png"/>
  <Override PartName="/ppt/media/image67.jpeg" ContentType="image/jpe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.png" ContentType="image/png"/>
  <Override PartName="/ppt/media/image14.png" ContentType="image/png"/>
  <Override PartName="/ppt/media/image66.png" ContentType="image/png"/>
  <Override PartName="/ppt/media/image26.png" ContentType="image/png"/>
  <Override PartName="/ppt/media/image63.png" ContentType="image/png"/>
  <Override PartName="/ppt/media/image65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60.wmf" ContentType="image/x-wmf"/>
  <Override PartName="/ppt/media/image38.png" ContentType="image/png"/>
  <Override PartName="/ppt/media/image13.png" ContentType="image/png"/>
  <Override PartName="/ppt/media/image9.png" ContentType="image/png"/>
  <Override PartName="/ppt/media/image61.wmf" ContentType="image/x-wmf"/>
  <Override PartName="/ppt/media/image64.jpeg" ContentType="image/jpeg"/>
  <Override PartName="/ppt/media/image39.png" ContentType="image/png"/>
  <Override PartName="/ppt/media/image30.png" ContentType="image/png"/>
  <Override PartName="/ppt/media/image31.png" ContentType="image/png"/>
  <Override PartName="/ppt/media/image36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12193588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26640" y="746280"/>
            <a:ext cx="661500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c1d22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FF54-BDB3-4429-B254-F7DCE7C6AE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27000" y="746280"/>
            <a:ext cx="6615000" cy="37209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Номер слайда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1BD6-97A0-4FFB-BFBC-542B0DA452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25F64-DF8A-46E1-A368-988542B6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10160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120" y="4107240"/>
            <a:ext cx="10160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0A830-7836-4B1F-856E-5010F7BE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815440" y="15998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815440" y="41072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8F0FF-7205-42D1-8495-136347A0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27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44240" y="1599840"/>
            <a:ext cx="327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479720" y="1599840"/>
            <a:ext cx="327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120" y="4107240"/>
            <a:ext cx="327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44240" y="4107240"/>
            <a:ext cx="327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479720" y="4107240"/>
            <a:ext cx="327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822BF-830F-400F-B898-CA033C16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43D5F-3EAD-4967-A7F3-719BE430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10160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944CE-5195-49C9-B59F-0C2057D5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1016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744F8-4CA8-44EF-8C2F-096E1C49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957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815440" y="1599840"/>
            <a:ext cx="4957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A105A-C0BD-4A75-A516-63CE36C3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ADFDB-1337-4907-8E5F-1D5D70A6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120" y="274320"/>
            <a:ext cx="1016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4961A-4708-4B86-8130-A0D497F5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815440" y="1599840"/>
            <a:ext cx="4957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BD0CC-B022-4A6D-9942-E77AD13F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10160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0DF4D-7D3E-4B71-9063-0EF0617C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957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815440" y="15998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815440" y="41072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810FC-8FA0-43A0-8891-8AE0E242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15440" y="15998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10160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132EB-60B7-48FA-8EB3-E42F8DB6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10160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120" y="4107240"/>
            <a:ext cx="10160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53006-4345-49DA-AD04-8D27D973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815440" y="15998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815440" y="41072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5B0D7-3B99-4796-815B-F9AE3B93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27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044240" y="1599840"/>
            <a:ext cx="327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479720" y="1599840"/>
            <a:ext cx="327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120" y="4107240"/>
            <a:ext cx="327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044240" y="4107240"/>
            <a:ext cx="327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7479720" y="4107240"/>
            <a:ext cx="327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D0308-7DAF-4070-B299-4BF674BF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3CA3E3-1079-4555-A8AA-7D8F0E62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10160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93E8E5-9F40-41BB-830B-7B4F4DC9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1016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463378-F2E9-4FB1-8E57-FCDF81B9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957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815440" y="1599840"/>
            <a:ext cx="4957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B3A511-7B77-4E8C-9D96-92313A2B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B36776-6812-4233-B9DC-68ED59BA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1016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F5B02-04B1-44F2-9EB0-FF45962E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74320"/>
            <a:ext cx="1016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8B99D5-B1EF-4590-A791-2429E1C3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815440" y="1599840"/>
            <a:ext cx="4957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1F3018-066D-4992-95B5-63740CFB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957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815440" y="15998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815440" y="41072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A78B8A-4803-407C-9D58-25CF1ACF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815440" y="15998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10160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CEF5C7-C774-4AF8-B068-1642415F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10160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09120" y="4107240"/>
            <a:ext cx="10160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AE36EA-01A3-4050-AC22-303A878D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815440" y="15998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815440" y="41072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D20BA2-8AD2-45C2-9ACF-5E039E07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27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044240" y="1599840"/>
            <a:ext cx="327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479720" y="1599840"/>
            <a:ext cx="327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09120" y="4107240"/>
            <a:ext cx="327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044240" y="4107240"/>
            <a:ext cx="327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7479720" y="4107240"/>
            <a:ext cx="327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FB63B3-F414-4E71-9CDD-BDF08E3C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2F551-B98A-46D3-9B7B-E6973615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10160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8A60F-F44B-4ED0-B23D-92001DDF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1016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3DE9C-F42C-4A10-A6E7-61E13AAB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957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815440" y="1599840"/>
            <a:ext cx="4957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3D521-2673-4974-9851-14CA7C36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957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815440" y="1599840"/>
            <a:ext cx="4957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687BC-3275-4A3C-8387-E703EAD1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9BF3F-09AD-433E-BA3D-AB09C20F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09120" y="274320"/>
            <a:ext cx="1016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520C2-6892-4F9B-A6DA-34AE2A63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815440" y="1599840"/>
            <a:ext cx="4957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D71BC-7EF4-40E1-94FD-B7CCE41B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957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815440" y="15998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815440" y="41072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A3E09-47F4-43F5-B729-84103CFA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815440" y="15998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10160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A552D-D8BB-40B1-9A6D-98AA3C08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10160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09120" y="4107240"/>
            <a:ext cx="10160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12929-F5A3-42D4-9CB6-BAA5A89C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815440" y="15998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815440" y="41072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BA9E7-FD43-4CA2-9376-5877BB52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27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4240" y="1599840"/>
            <a:ext cx="327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479720" y="1599840"/>
            <a:ext cx="327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09120" y="4107240"/>
            <a:ext cx="327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044240" y="4107240"/>
            <a:ext cx="327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479720" y="4107240"/>
            <a:ext cx="327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D4D16-8992-4F9A-B799-638DC05F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7728-C511-4B6F-997C-91985880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120" y="274320"/>
            <a:ext cx="1016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12491-87BE-4613-90AA-ED49448A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15440" y="1599840"/>
            <a:ext cx="4957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DCAA0-B3A0-4A5A-A90A-D477EB9B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957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15440" y="15998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15440" y="41072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00024-1E84-436F-896D-EE97EE9C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15440" y="1599840"/>
            <a:ext cx="4957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10160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93526-A909-4FCB-9ACB-9B403057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c1d2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1016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378d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f5c2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11277720" y="0"/>
            <a:ext cx="914400" cy="6858000"/>
          </a:xfrm>
          <a:prstGeom prst="rect">
            <a:avLst/>
          </a:prstGeom>
          <a:solidFill>
            <a:srgbClr val="9c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11277720" y="5486400"/>
            <a:ext cx="914400" cy="685800"/>
          </a:xfrm>
          <a:prstGeom prst="rect">
            <a:avLst/>
          </a:prstGeom>
          <a:solidFill>
            <a:srgbClr val="37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11394720" y="5668920"/>
            <a:ext cx="69228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E7FB-13A3-4E3D-84DB-31265336E56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10510560" y="3987720"/>
            <a:ext cx="2367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10474920" y="1585080"/>
            <a:ext cx="2438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b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8"/>
          <p:cNvSpPr/>
          <p:nvPr/>
        </p:nvSpPr>
        <p:spPr>
          <a:xfrm>
            <a:off x="11279160" y="189000"/>
            <a:ext cx="912960" cy="54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60" descr="\\606pc2\D\d\INSTITUT\значки\Znaki_.tif"/>
          <p:cNvPicPr/>
          <p:nvPr/>
        </p:nvPicPr>
        <p:blipFill>
          <a:blip r:embed="rId3"/>
          <a:stretch/>
        </p:blipFill>
        <p:spPr>
          <a:xfrm>
            <a:off x="11371320" y="272880"/>
            <a:ext cx="718920" cy="37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c1d2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1016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378d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f5c2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11277720" y="0"/>
            <a:ext cx="914400" cy="6858000"/>
          </a:xfrm>
          <a:prstGeom prst="rect">
            <a:avLst/>
          </a:prstGeom>
          <a:solidFill>
            <a:srgbClr val="9c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1277720" y="5486400"/>
            <a:ext cx="914400" cy="685800"/>
          </a:xfrm>
          <a:prstGeom prst="rect">
            <a:avLst/>
          </a:prstGeom>
          <a:solidFill>
            <a:srgbClr val="37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11394720" y="5668920"/>
            <a:ext cx="69228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7CFD-E7C7-4F63-93EB-61F887E0562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 rot="16200000">
            <a:off x="10510560" y="3987720"/>
            <a:ext cx="2367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dt" idx="6"/>
          </p:nvPr>
        </p:nvSpPr>
        <p:spPr>
          <a:xfrm rot="16200000">
            <a:off x="10474920" y="1585080"/>
            <a:ext cx="2438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b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11279160" y="189000"/>
            <a:ext cx="912960" cy="54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0" descr="\\606pc2\D\d\INSTITUT\значки\Znaki_.tif"/>
          <p:cNvPicPr/>
          <p:nvPr/>
        </p:nvPicPr>
        <p:blipFill>
          <a:blip r:embed="rId3"/>
          <a:stretch/>
        </p:blipFill>
        <p:spPr>
          <a:xfrm>
            <a:off x="11371320" y="272880"/>
            <a:ext cx="718920" cy="37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c1d2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1016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378d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f5c2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1277720" y="0"/>
            <a:ext cx="914400" cy="6858000"/>
          </a:xfrm>
          <a:prstGeom prst="rect">
            <a:avLst/>
          </a:prstGeom>
          <a:solidFill>
            <a:srgbClr val="9c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1277720" y="5486400"/>
            <a:ext cx="914400" cy="685800"/>
          </a:xfrm>
          <a:prstGeom prst="rect">
            <a:avLst/>
          </a:prstGeom>
          <a:solidFill>
            <a:srgbClr val="37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7"/>
          </p:nvPr>
        </p:nvSpPr>
        <p:spPr>
          <a:xfrm>
            <a:off x="11394720" y="5668920"/>
            <a:ext cx="69228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C059-EDB1-4CBA-A93C-A6BE0A95415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 rot="16200000">
            <a:off x="10510560" y="3987720"/>
            <a:ext cx="2367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dt" idx="9"/>
          </p:nvPr>
        </p:nvSpPr>
        <p:spPr>
          <a:xfrm rot="16200000">
            <a:off x="10474920" y="1585080"/>
            <a:ext cx="2438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b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рямоугольник 8"/>
          <p:cNvSpPr/>
          <p:nvPr/>
        </p:nvSpPr>
        <p:spPr>
          <a:xfrm>
            <a:off x="11279160" y="189000"/>
            <a:ext cx="912960" cy="54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0" descr="\\606pc2\D\d\INSTITUT\значки\Znaki_.tif"/>
          <p:cNvPicPr/>
          <p:nvPr/>
        </p:nvPicPr>
        <p:blipFill>
          <a:blip r:embed="rId3"/>
          <a:stretch/>
        </p:blipFill>
        <p:spPr>
          <a:xfrm>
            <a:off x="11371320" y="272880"/>
            <a:ext cx="718920" cy="37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11277720" y="0"/>
            <a:ext cx="914400" cy="6858000"/>
          </a:xfrm>
          <a:prstGeom prst="rect">
            <a:avLst/>
          </a:prstGeom>
          <a:solidFill>
            <a:srgbClr val="9c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1277720" y="5486400"/>
            <a:ext cx="914400" cy="685800"/>
          </a:xfrm>
          <a:prstGeom prst="rect">
            <a:avLst/>
          </a:prstGeom>
          <a:solidFill>
            <a:srgbClr val="37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8"/>
          <p:cNvSpPr/>
          <p:nvPr/>
        </p:nvSpPr>
        <p:spPr>
          <a:xfrm>
            <a:off x="11279160" y="189000"/>
            <a:ext cx="912960" cy="54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60" descr="\\606pc2\D\d\INSTITUT\значки\Znaki_.tif"/>
          <p:cNvPicPr/>
          <p:nvPr/>
        </p:nvPicPr>
        <p:blipFill>
          <a:blip r:embed="rId3"/>
          <a:stretch/>
        </p:blipFill>
        <p:spPr>
          <a:xfrm>
            <a:off x="11371320" y="272880"/>
            <a:ext cx="718920" cy="3765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16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c1d2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1016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378d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f5c2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 rot="16200000">
            <a:off x="10474920" y="1585080"/>
            <a:ext cx="2438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 rot="16200000">
            <a:off x="10510560" y="3987720"/>
            <a:ext cx="2367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11394720" y="5668920"/>
            <a:ext cx="69228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09B8-5FC7-48E6-88F4-6126C4EFF7C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image" Target="../media/image51.png"/><Relationship Id="rId17" Type="http://schemas.openxmlformats.org/officeDocument/2006/relationships/image" Target="../media/image52.png"/><Relationship Id="rId18" Type="http://schemas.openxmlformats.org/officeDocument/2006/relationships/image" Target="../media/image53.png"/><Relationship Id="rId19" Type="http://schemas.openxmlformats.org/officeDocument/2006/relationships/image" Target="../media/image54.png"/><Relationship Id="rId20" Type="http://schemas.openxmlformats.org/officeDocument/2006/relationships/image" Target="../media/image54.png"/><Relationship Id="rId2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jpeg"/><Relationship Id="rId6" Type="http://schemas.openxmlformats.org/officeDocument/2006/relationships/image" Target="../media/image62.png"/><Relationship Id="rId7" Type="http://schemas.openxmlformats.org/officeDocument/2006/relationships/image" Target="../media/image65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07880" y="1196640"/>
            <a:ext cx="7543800" cy="409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alibri"/>
                <a:ea typeface="Arial"/>
              </a:rPr>
              <a:t>47 заседание Межгосударственного совета по стандартизации, метрологии и сертификации</a:t>
            </a: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Итоги работы Государственного комитета по стандартизации  Республики Беларусь</a:t>
            </a:r>
            <a:endParaRPr b="0" lang="en-US" sz="2800" spc="-1" strike="noStrike">
              <a:solidFill>
                <a:srgbClr val="9c1d2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5"/>
          <p:cNvSpPr/>
          <p:nvPr/>
        </p:nvSpPr>
        <p:spPr>
          <a:xfrm>
            <a:off x="1703520" y="17640"/>
            <a:ext cx="82087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1d22"/>
                </a:solidFill>
                <a:latin typeface="Calibri"/>
              </a:rPr>
              <a:t>СТАНДАРТИЗАЦИЯ В ОБЛАСТИ</a:t>
            </a:r>
            <a:br>
              <a:rPr sz="2800"/>
            </a:br>
            <a:r>
              <a:rPr b="1" lang="ru-RU" sz="2800" spc="-1" strike="noStrike">
                <a:solidFill>
                  <a:srgbClr val="9c1d22"/>
                </a:solidFill>
                <a:latin typeface="Calibri"/>
              </a:rPr>
              <a:t> ЭНЕРГОЭФФЕКТИВНОСТИ И ЭНЕРГОСБЕРЕЖ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7"/>
          <p:cNvSpPr/>
          <p:nvPr/>
        </p:nvSpPr>
        <p:spPr>
          <a:xfrm>
            <a:off x="1714680" y="973080"/>
            <a:ext cx="8053200" cy="1008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грамма развития  системы технического нормирования, стандартизации и подтверждения соответствия в области энергосбережения на 2011 – 2015 годы (с изменениями № 1, №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Объект 2"/>
          <p:cNvSpPr/>
          <p:nvPr/>
        </p:nvSpPr>
        <p:spPr>
          <a:xfrm>
            <a:off x="1700280" y="2808360"/>
            <a:ext cx="410832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местные виды топли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высокоэкономичное теплогенерирующее оборуд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новые виды промышленного оборуд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бытовое электрооборуд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Прямоугольник 4"/>
          <p:cNvSpPr/>
          <p:nvPr/>
        </p:nvSpPr>
        <p:spPr>
          <a:xfrm>
            <a:off x="2424240" y="2011320"/>
            <a:ext cx="581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2e4b"/>
                </a:solidFill>
                <a:latin typeface="Calibri"/>
              </a:rPr>
              <a:t>Программой предусмотрена разработка </a:t>
            </a:r>
            <a:br>
              <a:rPr sz="2200"/>
            </a:br>
            <a:r>
              <a:rPr b="1" lang="ru-RU" sz="2200" spc="-1" strike="noStrike">
                <a:solidFill>
                  <a:srgbClr val="a50021"/>
                </a:solidFill>
                <a:latin typeface="Calibri"/>
              </a:rPr>
              <a:t>136 государственных стандартов </a:t>
            </a:r>
            <a:r>
              <a:rPr b="1" lang="ru-RU" sz="2200" spc="-1" strike="noStrike">
                <a:solidFill>
                  <a:srgbClr val="2b2e4b"/>
                </a:solidFill>
                <a:latin typeface="Calibri"/>
              </a:rPr>
              <a:t>н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Объект 2"/>
          <p:cNvSpPr/>
          <p:nvPr/>
        </p:nvSpPr>
        <p:spPr>
          <a:xfrm>
            <a:off x="5880240" y="2808360"/>
            <a:ext cx="388764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оборудование информационных технологий, аудио-, видео-  аппаратур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светотехнические устрой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энергоэффективное строитель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энергоменеджмен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Заголовок 1"/>
          <p:cNvSpPr/>
          <p:nvPr/>
        </p:nvSpPr>
        <p:spPr>
          <a:xfrm>
            <a:off x="1919160" y="4722840"/>
            <a:ext cx="76564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Calibri"/>
              </a:rPr>
              <a:t>В течение 2011-2014 гг. разработано и утверждено </a:t>
            </a:r>
            <a:r>
              <a:rPr b="1" i="1" lang="ru-RU" sz="2200" spc="-1" strike="noStrike">
                <a:solidFill>
                  <a:srgbClr val="a50021"/>
                </a:solidFill>
                <a:latin typeface="Calibri"/>
              </a:rPr>
              <a:t>77</a:t>
            </a:r>
            <a:r>
              <a:rPr b="1" i="1" lang="ru-RU" sz="2200" spc="-1" strike="noStrike">
                <a:solidFill>
                  <a:srgbClr val="000066"/>
                </a:solidFill>
                <a:latin typeface="Calibri"/>
              </a:rPr>
              <a:t> государственных и межгосударственных стандарто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27"/>
          <p:cNvSpPr/>
          <p:nvPr/>
        </p:nvSpPr>
        <p:spPr>
          <a:xfrm>
            <a:off x="3098880" y="5614920"/>
            <a:ext cx="5140080" cy="76680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  <a:effectLst>
            <a:outerShdw dist="153753" dir="2700000" blurRad="0" rotWithShape="0">
              <a:srgbClr val="c8c8b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Уровень гармонизации стандартов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85 %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(соответствие - </a:t>
            </a:r>
            <a:r>
              <a:rPr b="1" i="1" lang="en-US" sz="1400" spc="-1" strike="noStrike">
                <a:solidFill>
                  <a:srgbClr val="800000"/>
                </a:solidFill>
                <a:latin typeface="Arial"/>
              </a:rPr>
              <a:t>ISO, IEC, EN</a:t>
            </a:r>
            <a:r>
              <a:rPr b="1" i="1" lang="ru-RU" sz="14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966060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6D47-F3BF-45ED-B562-8A6DF5888476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5"/>
          <p:cNvSpPr/>
          <p:nvPr/>
        </p:nvSpPr>
        <p:spPr>
          <a:xfrm>
            <a:off x="1703520" y="17640"/>
            <a:ext cx="82087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1d22"/>
                </a:solidFill>
                <a:latin typeface="Calibri"/>
              </a:rPr>
              <a:t>СТАНДАРТИЗАЦИЯ В ОБЛАСТИ</a:t>
            </a:r>
            <a:br>
              <a:rPr sz="2800"/>
            </a:br>
            <a:r>
              <a:rPr b="1" lang="ru-RU" sz="2800" spc="-1" strike="noStrike">
                <a:solidFill>
                  <a:srgbClr val="9c1d22"/>
                </a:solidFill>
                <a:latin typeface="Calibri"/>
              </a:rPr>
              <a:t> ЭНЕРГОЭФФЕКТИВНОСТИ И ЭНЕРГОСБЕРЕЖ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1774800" y="1090440"/>
            <a:ext cx="8137440" cy="962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Программа  развития  межгосударственных  стандартов, 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обеспечивающих  их  гармонизацию  с  международными стандартами в  области  энергоэффективности  и  энергосбережения (на 2012– 2014 годы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1981080" y="3141720"/>
            <a:ext cx="790596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За Республикой Беларусь закреплена разработка 97 Г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AutoShape 14"/>
          <p:cNvSpPr/>
          <p:nvPr/>
        </p:nvSpPr>
        <p:spPr>
          <a:xfrm>
            <a:off x="1887480" y="2205000"/>
            <a:ext cx="6440400" cy="792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b2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Предусматривала разработку более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700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стандартов,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гармонизированных с международными стандартами (</a:t>
            </a: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ISO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IEC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), европейскими стандартами (Е</a:t>
            </a: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N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), стандартами </a:t>
            </a: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ASTM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Прямоугольник 1"/>
          <p:cNvSpPr/>
          <p:nvPr/>
        </p:nvSpPr>
        <p:spPr>
          <a:xfrm>
            <a:off x="1862280" y="3573360"/>
            <a:ext cx="8189640" cy="32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В 2013-2014 гг. в Республике Беларусь велась разработка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  <a:ea typeface="Calibri"/>
              </a:rPr>
              <a:t>29 проектов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ГОСТ по направления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d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возобновляемые источники энергии, топливо – 9 ГОС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d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теплогенерирующее оборудование – 6 ГОС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d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двигатели внутреннего сгорания – 2  ГОС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d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светильники и светотехническая арматура – 2 ГОС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d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малые энергосистемы – 5 ГОС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d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промышленное оборудование – 4 ГОС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d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строительные материалы –  1 ГОС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d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Утверждено </a:t>
            </a:r>
            <a:r>
              <a:rPr b="1" i="1" lang="ru-RU" sz="1600" spc="-1" strike="noStrike">
                <a:solidFill>
                  <a:srgbClr val="800000"/>
                </a:solidFill>
                <a:latin typeface="Calibri"/>
                <a:ea typeface="Calibri"/>
              </a:rPr>
              <a:t>22 стандарта</a:t>
            </a:r>
            <a:r>
              <a:rPr b="1" i="1" lang="ru-RU" sz="16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1" i="1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(возобновляемые источники энергии, светильники, электрические лампы бытового назначения, источники питания, газовые приборы, котлы отопительные, строительные материалы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968148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F7E7-46F8-4CC6-A4C9-5C12F7B26496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1"/>
          <p:cNvSpPr/>
          <p:nvPr/>
        </p:nvSpPr>
        <p:spPr>
          <a:xfrm>
            <a:off x="1611360" y="115920"/>
            <a:ext cx="83725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1d22"/>
                </a:solidFill>
                <a:latin typeface="Calibri"/>
              </a:rPr>
              <a:t>НАЦИОНАЛЬНЫЕ ТЕХНИЧЕСКИЕ КОМИТЕТЫ ПО СТАНДАРТИЗАЦ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3935520" y="907920"/>
            <a:ext cx="3317760" cy="5335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굴림"/>
              </a:rPr>
              <a:t>43 ТК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Rectangle 6"/>
          <p:cNvGrpSpPr/>
          <p:nvPr/>
        </p:nvGrpSpPr>
        <p:grpSpPr>
          <a:xfrm>
            <a:off x="3292560" y="1809720"/>
            <a:ext cx="2266920" cy="1427040"/>
            <a:chOff x="3292560" y="1809720"/>
            <a:chExt cx="2266920" cy="1427040"/>
          </a:xfrm>
        </p:grpSpPr>
        <p:pic>
          <p:nvPicPr>
            <p:cNvPr id="284" name="Rectangle 6" descr=""/>
            <p:cNvPicPr/>
            <p:nvPr/>
          </p:nvPicPr>
          <p:blipFill>
            <a:blip r:embed="rId1"/>
            <a:stretch/>
          </p:blipFill>
          <p:spPr>
            <a:xfrm>
              <a:off x="3292560" y="1809720"/>
              <a:ext cx="22669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3359160" y="1844640"/>
              <a:ext cx="21258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  <a:ea typeface="Malgun Gothic"/>
                </a:rPr>
                <a:t>29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Malgun Gothic"/>
                </a:rPr>
                <a:t> </a:t>
              </a:r>
              <a:r>
                <a:rPr b="1" lang="ru-RU" sz="1600" spc="-1" strike="noStrike">
                  <a:solidFill>
                    <a:srgbClr val="003366"/>
                  </a:solidFill>
                  <a:latin typeface="Arial"/>
                  <a:ea typeface="Malgun Gothic"/>
                </a:rPr>
                <a:t>ТК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Malgun Gothic"/>
                </a:rPr>
                <a:t>B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  <a:ea typeface="Malgun Gothic"/>
                </a:rPr>
                <a:t>в области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  <a:ea typeface="Malgun Gothic"/>
                </a:rPr>
                <a:t>стандартизаци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Rectangle 7"/>
          <p:cNvGrpSpPr/>
          <p:nvPr/>
        </p:nvGrpSpPr>
        <p:grpSpPr>
          <a:xfrm>
            <a:off x="5572080" y="1805040"/>
            <a:ext cx="2346480" cy="1517760"/>
            <a:chOff x="5572080" y="1805040"/>
            <a:chExt cx="2346480" cy="1517760"/>
          </a:xfrm>
        </p:grpSpPr>
        <p:pic>
          <p:nvPicPr>
            <p:cNvPr id="287" name="Rectangle 7" descr=""/>
            <p:cNvPicPr/>
            <p:nvPr/>
          </p:nvPicPr>
          <p:blipFill>
            <a:blip r:embed="rId2"/>
            <a:stretch/>
          </p:blipFill>
          <p:spPr>
            <a:xfrm>
              <a:off x="5572080" y="1805040"/>
              <a:ext cx="234648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668920" y="1868400"/>
              <a:ext cx="2156040" cy="12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  <a:ea typeface="Malgun Gothic"/>
                </a:rPr>
                <a:t>1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Malgun Gothic"/>
                </a:rPr>
                <a:t>4</a:t>
              </a:r>
              <a:r>
                <a:rPr b="1" lang="ru-RU" sz="1600" spc="-1" strike="noStrike">
                  <a:solidFill>
                    <a:srgbClr val="003366"/>
                  </a:solidFill>
                  <a:latin typeface="Arial"/>
                  <a:ea typeface="Malgun Gothic"/>
                </a:rPr>
                <a:t> ТК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Malgun Gothic"/>
                </a:rPr>
                <a:t>B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  <a:ea typeface="Malgun Gothic"/>
                </a:rPr>
                <a:t>по стандартизации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  <a:ea typeface="Malgun Gothic"/>
                </a:rPr>
                <a:t>в област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  <a:ea typeface="Malgun Gothic"/>
                </a:rPr>
                <a:t>архитектуры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  <a:ea typeface="Malgun Gothic"/>
                </a:rPr>
                <a:t>и строительств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9" name="AutoShape 9"/>
          <p:cNvSpPr/>
          <p:nvPr/>
        </p:nvSpPr>
        <p:spPr>
          <a:xfrm>
            <a:off x="4079880" y="1482840"/>
            <a:ext cx="641520" cy="33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10"/>
          <p:cNvSpPr/>
          <p:nvPr/>
        </p:nvSpPr>
        <p:spPr>
          <a:xfrm>
            <a:off x="6318360" y="1496880"/>
            <a:ext cx="641160" cy="33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1631880" y="3281400"/>
            <a:ext cx="43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Менеджмент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качеств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тандартизация в области метр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Колесные транспортные сред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Тракторы и машины для сельскохозяйственных работ и лесовод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Электротехника и электро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5951520" y="3213000"/>
            <a:ext cx="403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Парфюмерно-косметическая продук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едицинская тех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Электротехника и электро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оциальная ответствен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Информационные техн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Оценка соответст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Энергоэффектив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966708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3896-16B9-47A3-ACD5-6CE83911ABC4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Прямоугольник 1"/>
          <p:cNvSpPr/>
          <p:nvPr/>
        </p:nvSpPr>
        <p:spPr>
          <a:xfrm>
            <a:off x="2279520" y="6018120"/>
            <a:ext cx="7129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5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Надежность в техни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5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Судебно-экспертная деятельность и криминалистическая тех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2366640" y="564984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Calibri"/>
              </a:rPr>
              <a:t>Созданы в 2015 год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4"/>
          <p:cNvSpPr/>
          <p:nvPr/>
        </p:nvSpPr>
        <p:spPr>
          <a:xfrm>
            <a:off x="966960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6858-1458-4535-B48B-78989A15F323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7" name="Rectangle 3"/>
          <p:cNvGrpSpPr/>
          <p:nvPr/>
        </p:nvGrpSpPr>
        <p:grpSpPr>
          <a:xfrm>
            <a:off x="1700280" y="901800"/>
            <a:ext cx="3359160" cy="658800"/>
            <a:chOff x="1700280" y="901800"/>
            <a:chExt cx="3359160" cy="658800"/>
          </a:xfrm>
        </p:grpSpPr>
        <p:pic>
          <p:nvPicPr>
            <p:cNvPr id="298" name="Rectangle 3" descr=""/>
            <p:cNvPicPr/>
            <p:nvPr/>
          </p:nvPicPr>
          <p:blipFill>
            <a:blip r:embed="rId1"/>
            <a:stretch/>
          </p:blipFill>
          <p:spPr>
            <a:xfrm>
              <a:off x="1700280" y="901800"/>
              <a:ext cx="33591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760400" y="966960"/>
              <a:ext cx="324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олноправный член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0" name="Picture 11" descr=""/>
          <p:cNvPicPr/>
          <p:nvPr/>
        </p:nvPicPr>
        <p:blipFill>
          <a:blip r:embed="rId2"/>
          <a:stretch/>
        </p:blipFill>
        <p:spPr>
          <a:xfrm>
            <a:off x="2141640" y="1413000"/>
            <a:ext cx="718920" cy="6062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"/>
          <p:cNvPicPr/>
          <p:nvPr/>
        </p:nvPicPr>
        <p:blipFill>
          <a:blip r:embed="rId3"/>
          <a:stretch/>
        </p:blipFill>
        <p:spPr>
          <a:xfrm>
            <a:off x="2082960" y="3352680"/>
            <a:ext cx="623880" cy="648000"/>
          </a:xfrm>
          <a:prstGeom prst="rect">
            <a:avLst/>
          </a:prstGeom>
          <a:ln w="0">
            <a:noFill/>
          </a:ln>
        </p:spPr>
      </p:pic>
      <p:grpSp>
        <p:nvGrpSpPr>
          <p:cNvPr id="302" name="Rectangle 5"/>
          <p:cNvGrpSpPr/>
          <p:nvPr/>
        </p:nvGrpSpPr>
        <p:grpSpPr>
          <a:xfrm>
            <a:off x="5962680" y="1352520"/>
            <a:ext cx="2144520" cy="738360"/>
            <a:chOff x="5962680" y="1352520"/>
            <a:chExt cx="2144520" cy="738360"/>
          </a:xfrm>
        </p:grpSpPr>
        <p:pic>
          <p:nvPicPr>
            <p:cNvPr id="303" name="Rectangle 5" descr=""/>
            <p:cNvPicPr/>
            <p:nvPr/>
          </p:nvPicPr>
          <p:blipFill>
            <a:blip r:embed="rId4"/>
            <a:stretch/>
          </p:blipFill>
          <p:spPr>
            <a:xfrm>
              <a:off x="5962680" y="1352520"/>
              <a:ext cx="214452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6022800" y="1413000"/>
              <a:ext cx="202428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Б - 62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ISO</a:t>
              </a:r>
              <a:r>
                <a:rPr b="1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/Т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5" name="Rectangle 5"/>
          <p:cNvGrpSpPr/>
          <p:nvPr/>
        </p:nvGrpSpPr>
        <p:grpSpPr>
          <a:xfrm>
            <a:off x="5827680" y="3292560"/>
            <a:ext cx="2139840" cy="792000"/>
            <a:chOff x="5827680" y="3292560"/>
            <a:chExt cx="2139840" cy="792000"/>
          </a:xfrm>
        </p:grpSpPr>
        <p:pic>
          <p:nvPicPr>
            <p:cNvPr id="306" name="Rectangle 5" descr=""/>
            <p:cNvPicPr/>
            <p:nvPr/>
          </p:nvPicPr>
          <p:blipFill>
            <a:blip r:embed="rId5"/>
            <a:stretch/>
          </p:blipFill>
          <p:spPr>
            <a:xfrm>
              <a:off x="5827680" y="3292560"/>
              <a:ext cx="21398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5888160" y="3352680"/>
              <a:ext cx="20192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Б - 22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IEC</a:t>
              </a:r>
              <a:r>
                <a:rPr b="1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/Т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8" name="Rectangle 5"/>
          <p:cNvGrpSpPr/>
          <p:nvPr/>
        </p:nvGrpSpPr>
        <p:grpSpPr>
          <a:xfrm>
            <a:off x="6761160" y="1676520"/>
            <a:ext cx="1627200" cy="542880"/>
            <a:chOff x="6761160" y="1676520"/>
            <a:chExt cx="1627200" cy="542880"/>
          </a:xfrm>
        </p:grpSpPr>
        <p:pic>
          <p:nvPicPr>
            <p:cNvPr id="309" name="Rectangle 5" descr=""/>
            <p:cNvPicPr/>
            <p:nvPr/>
          </p:nvPicPr>
          <p:blipFill>
            <a:blip r:embed="rId6"/>
            <a:stretch/>
          </p:blipFill>
          <p:spPr>
            <a:xfrm>
              <a:off x="6761160" y="1676520"/>
              <a:ext cx="16272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6821640" y="1722600"/>
              <a:ext cx="150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494e7f"/>
                  </a:solidFill>
                  <a:latin typeface="Calibri"/>
                  <a:ea typeface="Calibri"/>
                </a:rPr>
                <a:t>106 </a:t>
              </a:r>
              <a:r>
                <a:rPr b="1" lang="en-US" sz="1600" spc="-1" strike="noStrike">
                  <a:solidFill>
                    <a:srgbClr val="494e7f"/>
                  </a:solidFill>
                  <a:latin typeface="Calibri"/>
                  <a:ea typeface="Calibri"/>
                </a:rPr>
                <a:t>ISO</a:t>
              </a:r>
              <a:r>
                <a:rPr b="1" lang="ru-RU" sz="1600" spc="-1" strike="noStrike">
                  <a:solidFill>
                    <a:srgbClr val="494e7f"/>
                  </a:solidFill>
                  <a:latin typeface="Calibri"/>
                  <a:ea typeface="Calibri"/>
                </a:rPr>
                <a:t>/ТС/</a:t>
              </a:r>
              <a:r>
                <a:rPr b="1" lang="en-US" sz="1600" spc="-1" strike="noStrike">
                  <a:solidFill>
                    <a:srgbClr val="494e7f"/>
                  </a:solidFill>
                  <a:latin typeface="Calibri"/>
                  <a:ea typeface="Calibri"/>
                </a:rPr>
                <a:t>S</a:t>
              </a:r>
              <a:r>
                <a:rPr b="1" lang="ru-RU" sz="1600" spc="-1" strike="noStrike">
                  <a:solidFill>
                    <a:srgbClr val="494e7f"/>
                  </a:solidFill>
                  <a:latin typeface="Calibri"/>
                  <a:ea typeface="Calibri"/>
                </a:rPr>
                <a:t>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1" name="Rectangle 5"/>
          <p:cNvGrpSpPr/>
          <p:nvPr/>
        </p:nvGrpSpPr>
        <p:grpSpPr>
          <a:xfrm>
            <a:off x="6613560" y="3627360"/>
            <a:ext cx="1628640" cy="547920"/>
            <a:chOff x="6613560" y="3627360"/>
            <a:chExt cx="1628640" cy="547920"/>
          </a:xfrm>
        </p:grpSpPr>
        <p:pic>
          <p:nvPicPr>
            <p:cNvPr id="312" name="Rectangle 5" descr=""/>
            <p:cNvPicPr/>
            <p:nvPr/>
          </p:nvPicPr>
          <p:blipFill>
            <a:blip r:embed="rId7"/>
            <a:stretch/>
          </p:blipFill>
          <p:spPr>
            <a:xfrm>
              <a:off x="6613560" y="3627360"/>
              <a:ext cx="162864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672240" y="3676680"/>
              <a:ext cx="150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494e7f"/>
                  </a:solidFill>
                  <a:latin typeface="Calibri"/>
                  <a:ea typeface="Calibri"/>
                </a:rPr>
                <a:t>26 </a:t>
              </a:r>
              <a:r>
                <a:rPr b="1" lang="en-US" sz="1600" spc="-1" strike="noStrike">
                  <a:solidFill>
                    <a:srgbClr val="494e7f"/>
                  </a:solidFill>
                  <a:latin typeface="Calibri"/>
                  <a:ea typeface="Calibri"/>
                </a:rPr>
                <a:t>IEC</a:t>
              </a:r>
              <a:r>
                <a:rPr b="1" lang="ru-RU" sz="1600" spc="-1" strike="noStrike">
                  <a:solidFill>
                    <a:srgbClr val="494e7f"/>
                  </a:solidFill>
                  <a:latin typeface="Calibri"/>
                  <a:ea typeface="Calibri"/>
                </a:rPr>
                <a:t>/ТС/</a:t>
              </a:r>
              <a:r>
                <a:rPr b="1" lang="en-US" sz="1600" spc="-1" strike="noStrike">
                  <a:solidFill>
                    <a:srgbClr val="494e7f"/>
                  </a:solidFill>
                  <a:latin typeface="Calibri"/>
                  <a:ea typeface="Calibri"/>
                </a:rPr>
                <a:t>S</a:t>
              </a:r>
              <a:r>
                <a:rPr b="1" lang="ru-RU" sz="1600" spc="-1" strike="noStrike">
                  <a:solidFill>
                    <a:srgbClr val="494e7f"/>
                  </a:solidFill>
                  <a:latin typeface="Calibri"/>
                  <a:ea typeface="Calibri"/>
                </a:rPr>
                <a:t>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4" name="Rectangle 5"/>
          <p:cNvGrpSpPr/>
          <p:nvPr/>
        </p:nvGrpSpPr>
        <p:grpSpPr>
          <a:xfrm>
            <a:off x="3468600" y="1384200"/>
            <a:ext cx="2176560" cy="719280"/>
            <a:chOff x="3468600" y="1384200"/>
            <a:chExt cx="2176560" cy="719280"/>
          </a:xfrm>
        </p:grpSpPr>
        <p:pic>
          <p:nvPicPr>
            <p:cNvPr id="315" name="Rectangle 5" descr=""/>
            <p:cNvPicPr/>
            <p:nvPr/>
          </p:nvPicPr>
          <p:blipFill>
            <a:blip r:embed="rId8"/>
            <a:stretch/>
          </p:blipFill>
          <p:spPr>
            <a:xfrm>
              <a:off x="3468600" y="1384200"/>
              <a:ext cx="21765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3540240" y="1413000"/>
              <a:ext cx="20383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Всего - 2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r>
                <a:rPr b="1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8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ISO</a:t>
              </a:r>
              <a:r>
                <a:rPr b="1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/Т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7" name="Rectangle 5"/>
          <p:cNvGrpSpPr/>
          <p:nvPr/>
        </p:nvGrpSpPr>
        <p:grpSpPr>
          <a:xfrm>
            <a:off x="2992320" y="3322800"/>
            <a:ext cx="2165400" cy="761760"/>
            <a:chOff x="2992320" y="3322800"/>
            <a:chExt cx="2165400" cy="761760"/>
          </a:xfrm>
        </p:grpSpPr>
        <p:pic>
          <p:nvPicPr>
            <p:cNvPr id="318" name="Rectangle 5" descr=""/>
            <p:cNvPicPr/>
            <p:nvPr/>
          </p:nvPicPr>
          <p:blipFill>
            <a:blip r:embed="rId9"/>
            <a:stretch/>
          </p:blipFill>
          <p:spPr>
            <a:xfrm>
              <a:off x="2992320" y="3322800"/>
              <a:ext cx="216540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056040" y="3352680"/>
              <a:ext cx="20383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Всего - 97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IEC</a:t>
              </a:r>
              <a:r>
                <a:rPr b="1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/Т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0" name="Прямоугольник 32"/>
          <p:cNvSpPr/>
          <p:nvPr/>
        </p:nvSpPr>
        <p:spPr>
          <a:xfrm>
            <a:off x="2085840" y="2060640"/>
            <a:ext cx="7755120" cy="1098360"/>
          </a:xfrm>
          <a:prstGeom prst="rect">
            <a:avLst/>
          </a:prstGeom>
          <a:solidFill>
            <a:srgbClr val="e9edf4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В 2014 году проведены работы по расширению участия в работ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ISO/TC 69 «Применение статистических методов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ISO/TC 288 «Системы менеджмента в образовательных организациях. Требования и руководство по использованию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Прямоугольник 33"/>
          <p:cNvSpPr/>
          <p:nvPr/>
        </p:nvSpPr>
        <p:spPr>
          <a:xfrm>
            <a:off x="2063880" y="4037040"/>
            <a:ext cx="7315200" cy="611640"/>
          </a:xfrm>
          <a:prstGeom prst="rect">
            <a:avLst/>
          </a:prstGeom>
          <a:solidFill>
            <a:srgbClr val="e9edf4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В 2014 году проведены работы по расширению участия в работ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IEC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/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TC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56 «Надежность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9" descr=""/>
          <p:cNvPicPr/>
          <p:nvPr/>
        </p:nvPicPr>
        <p:blipFill>
          <a:blip r:embed="rId10"/>
          <a:srcRect l="0" t="10662" r="0" b="15966"/>
          <a:stretch/>
        </p:blipFill>
        <p:spPr>
          <a:xfrm>
            <a:off x="7175520" y="5302080"/>
            <a:ext cx="1257120" cy="5032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"/>
          <p:cNvPicPr/>
          <p:nvPr/>
        </p:nvPicPr>
        <p:blipFill>
          <a:blip r:embed="rId11"/>
          <a:stretch/>
        </p:blipFill>
        <p:spPr>
          <a:xfrm>
            <a:off x="3519360" y="5294160"/>
            <a:ext cx="648000" cy="582840"/>
          </a:xfrm>
          <a:prstGeom prst="rect">
            <a:avLst/>
          </a:prstGeom>
          <a:ln w="0">
            <a:noFill/>
          </a:ln>
        </p:spPr>
      </p:pic>
      <p:grpSp>
        <p:nvGrpSpPr>
          <p:cNvPr id="324" name="Rectangle 5"/>
          <p:cNvGrpSpPr/>
          <p:nvPr/>
        </p:nvGrpSpPr>
        <p:grpSpPr>
          <a:xfrm>
            <a:off x="2438280" y="6297480"/>
            <a:ext cx="2925720" cy="633600"/>
            <a:chOff x="2438280" y="6297480"/>
            <a:chExt cx="2925720" cy="633600"/>
          </a:xfrm>
        </p:grpSpPr>
        <p:pic>
          <p:nvPicPr>
            <p:cNvPr id="325" name="Rectangle 5" descr=""/>
            <p:cNvPicPr/>
            <p:nvPr/>
          </p:nvPicPr>
          <p:blipFill>
            <a:blip r:embed="rId12"/>
            <a:stretch/>
          </p:blipFill>
          <p:spPr>
            <a:xfrm>
              <a:off x="2438280" y="6297480"/>
              <a:ext cx="292572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2500200" y="6356520"/>
              <a:ext cx="28036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Б - 68 С</a:t>
              </a:r>
              <a:r>
                <a:rPr b="1" lang="en-US" sz="1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EN</a:t>
              </a:r>
              <a:r>
                <a:rPr b="1" lang="ru-RU" sz="1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/ТС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7" name="Rectangle 5"/>
          <p:cNvGrpSpPr/>
          <p:nvPr/>
        </p:nvGrpSpPr>
        <p:grpSpPr>
          <a:xfrm>
            <a:off x="6327720" y="6297480"/>
            <a:ext cx="2925720" cy="633600"/>
            <a:chOff x="6327720" y="6297480"/>
            <a:chExt cx="2925720" cy="633600"/>
          </a:xfrm>
        </p:grpSpPr>
        <p:pic>
          <p:nvPicPr>
            <p:cNvPr id="328" name="Rectangle 5" descr=""/>
            <p:cNvPicPr/>
            <p:nvPr/>
          </p:nvPicPr>
          <p:blipFill>
            <a:blip r:embed="rId13"/>
            <a:stretch/>
          </p:blipFill>
          <p:spPr>
            <a:xfrm>
              <a:off x="6327720" y="6297480"/>
              <a:ext cx="292572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6388200" y="6356520"/>
              <a:ext cx="28033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Б - 1</a:t>
              </a:r>
              <a:r>
                <a:rPr b="1" lang="en-US" sz="1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r>
                <a:rPr b="1" lang="ru-RU" sz="1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С</a:t>
              </a:r>
              <a:r>
                <a:rPr b="1" lang="en-US" sz="1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LC</a:t>
              </a:r>
              <a:r>
                <a:rPr b="1" lang="ru-RU" sz="1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/ТС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0" name="Rectangle 5"/>
          <p:cNvGrpSpPr/>
          <p:nvPr/>
        </p:nvGrpSpPr>
        <p:grpSpPr>
          <a:xfrm>
            <a:off x="2438280" y="5864400"/>
            <a:ext cx="2925720" cy="633240"/>
            <a:chOff x="2438280" y="5864400"/>
            <a:chExt cx="2925720" cy="633240"/>
          </a:xfrm>
        </p:grpSpPr>
        <p:pic>
          <p:nvPicPr>
            <p:cNvPr id="331" name="Rectangle 5" descr=""/>
            <p:cNvPicPr/>
            <p:nvPr/>
          </p:nvPicPr>
          <p:blipFill>
            <a:blip r:embed="rId14"/>
            <a:stretch/>
          </p:blipFill>
          <p:spPr>
            <a:xfrm>
              <a:off x="2438280" y="5864400"/>
              <a:ext cx="29257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2500200" y="5924520"/>
              <a:ext cx="28036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Всего - 4</a:t>
              </a:r>
              <a:r>
                <a:rPr b="1" lang="en-US" sz="1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r>
                <a:rPr b="1" lang="ru-RU" sz="1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 </a:t>
              </a:r>
              <a:r>
                <a:rPr b="1" lang="en-US" sz="1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EN</a:t>
              </a:r>
              <a:r>
                <a:rPr b="1" lang="ru-RU" sz="1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/ТС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3" name="Rectangle 5"/>
          <p:cNvGrpSpPr/>
          <p:nvPr/>
        </p:nvGrpSpPr>
        <p:grpSpPr>
          <a:xfrm>
            <a:off x="6327720" y="5846760"/>
            <a:ext cx="2925720" cy="633240"/>
            <a:chOff x="6327720" y="5846760"/>
            <a:chExt cx="2925720" cy="633240"/>
          </a:xfrm>
        </p:grpSpPr>
        <p:pic>
          <p:nvPicPr>
            <p:cNvPr id="334" name="Rectangle 5" descr=""/>
            <p:cNvPicPr/>
            <p:nvPr/>
          </p:nvPicPr>
          <p:blipFill>
            <a:blip r:embed="rId15"/>
            <a:stretch/>
          </p:blipFill>
          <p:spPr>
            <a:xfrm>
              <a:off x="6327720" y="5846760"/>
              <a:ext cx="29257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6388200" y="5905440"/>
              <a:ext cx="28033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Всего - 70 </a:t>
              </a:r>
              <a:r>
                <a:rPr b="1" lang="en-US" sz="1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LC</a:t>
              </a:r>
              <a:r>
                <a:rPr b="1" lang="ru-RU" sz="1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/ТС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Rectangle 8"/>
          <p:cNvGrpSpPr/>
          <p:nvPr/>
        </p:nvGrpSpPr>
        <p:grpSpPr>
          <a:xfrm>
            <a:off x="1700280" y="4767120"/>
            <a:ext cx="3359160" cy="658800"/>
            <a:chOff x="1700280" y="4767120"/>
            <a:chExt cx="3359160" cy="658800"/>
          </a:xfrm>
        </p:grpSpPr>
        <p:pic>
          <p:nvPicPr>
            <p:cNvPr id="337" name="Rectangle 8" descr=""/>
            <p:cNvPicPr/>
            <p:nvPr/>
          </p:nvPicPr>
          <p:blipFill>
            <a:blip r:embed="rId16"/>
            <a:stretch/>
          </p:blipFill>
          <p:spPr>
            <a:xfrm>
              <a:off x="1700280" y="4767120"/>
              <a:ext cx="33591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1760400" y="4832280"/>
              <a:ext cx="324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Аффилированный член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9" name="Text Box 2"/>
          <p:cNvSpPr/>
          <p:nvPr/>
        </p:nvSpPr>
        <p:spPr>
          <a:xfrm>
            <a:off x="1344600" y="11592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1d22"/>
                </a:solidFill>
                <a:latin typeface="Calibri"/>
              </a:rPr>
              <a:t>УЧАСТИЕ  В  МЕЖДУНАРОДНЫХ  И  РЕГИОНАЛЬНЫХ ОРГАНИЗАЦИЯХ  ПО  СТАНДАРТИЗ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19"/>
          <p:cNvGrpSpPr/>
          <p:nvPr/>
        </p:nvGrpSpPr>
        <p:grpSpPr>
          <a:xfrm>
            <a:off x="1631880" y="1473120"/>
            <a:ext cx="8496360" cy="2735280"/>
            <a:chOff x="1631880" y="1473120"/>
            <a:chExt cx="8496360" cy="2735280"/>
          </a:xfrm>
        </p:grpSpPr>
        <p:sp>
          <p:nvSpPr>
            <p:cNvPr id="341" name="Text Box 6"/>
            <p:cNvSpPr/>
            <p:nvPr/>
          </p:nvSpPr>
          <p:spPr>
            <a:xfrm>
              <a:off x="2207880" y="2181240"/>
              <a:ext cx="7632720" cy="1584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i="1" lang="ru-RU" sz="1600" spc="-1" strike="noStrike">
                  <a:solidFill>
                    <a:srgbClr val="003366"/>
                  </a:solidFill>
                  <a:latin typeface="Arial"/>
                </a:rPr>
                <a:t>Технические нормативные правовые акты Республики Беларусь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i="1" lang="ru-RU" sz="1600" spc="-1" strike="noStrike">
                  <a:solidFill>
                    <a:srgbClr val="003366"/>
                  </a:solidFill>
                  <a:latin typeface="Arial"/>
                </a:rPr>
                <a:t>Законодательные акты о действии ТНП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i="1" lang="ru-RU" sz="1600" spc="-1" strike="noStrike">
                  <a:solidFill>
                    <a:srgbClr val="003366"/>
                  </a:solidFill>
                  <a:latin typeface="Arial"/>
                </a:rPr>
                <a:t>Техническое законодательство Таможенного союз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i="1" lang="ru-RU" sz="1600" spc="-1" strike="noStrike">
                  <a:solidFill>
                    <a:srgbClr val="003366"/>
                  </a:solidFill>
                  <a:latin typeface="Arial"/>
                </a:rPr>
                <a:t>Международные, региональные стандарт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i="1" lang="ru-RU" sz="1600" spc="-1" strike="noStrike">
                  <a:solidFill>
                    <a:srgbClr val="003366"/>
                  </a:solidFill>
                  <a:latin typeface="Arial"/>
                </a:rPr>
                <a:t>Национальные стандарты иностранных государств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i="1" lang="ru-RU" sz="1600" spc="-1" strike="noStrike">
                  <a:solidFill>
                    <a:srgbClr val="003366"/>
                  </a:solidFill>
                  <a:latin typeface="Arial"/>
                </a:rPr>
                <a:t>Техническое законодательство Е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Text Box 7"/>
            <p:cNvSpPr/>
            <p:nvPr/>
          </p:nvSpPr>
          <p:spPr>
            <a:xfrm>
              <a:off x="1631880" y="1473120"/>
              <a:ext cx="3673440" cy="719280"/>
            </a:xfrm>
            <a:prstGeom prst="rect">
              <a:avLst/>
            </a:prstGeom>
            <a:solidFill>
              <a:srgbClr val="9c1d2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Национальный фонд ТНП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Calibri"/>
                </a:rPr>
                <a:t>(более 200 000 документов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Text Box 9"/>
            <p:cNvSpPr/>
            <p:nvPr/>
          </p:nvSpPr>
          <p:spPr>
            <a:xfrm>
              <a:off x="1919160" y="3765600"/>
              <a:ext cx="8209080" cy="442800"/>
            </a:xfrm>
            <a:prstGeom prst="rect">
              <a:avLst/>
            </a:prstGeom>
            <a:solidFill>
              <a:srgbClr val="22226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Электронный банк данных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4" name="Стрелка вправо 5"/>
          <p:cNvSpPr/>
          <p:nvPr/>
        </p:nvSpPr>
        <p:spPr>
          <a:xfrm rot="5400000">
            <a:off x="5329080" y="4076640"/>
            <a:ext cx="431640" cy="863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9c1d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2449440" y="485640"/>
            <a:ext cx="7031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СИСТЕМА КОМПЛЕКСНОГО ИНФОРМАЦИОННОГО ОБЕСПЕ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6" name="Группа 7"/>
          <p:cNvGrpSpPr/>
          <p:nvPr/>
        </p:nvGrpSpPr>
        <p:grpSpPr>
          <a:xfrm>
            <a:off x="2063880" y="4875120"/>
            <a:ext cx="7777080" cy="1290600"/>
            <a:chOff x="2063880" y="4875120"/>
            <a:chExt cx="7777080" cy="1290600"/>
          </a:xfrm>
        </p:grpSpPr>
        <p:sp>
          <p:nvSpPr>
            <p:cNvPr id="347" name="Text Box 17"/>
            <p:cNvSpPr/>
            <p:nvPr/>
          </p:nvSpPr>
          <p:spPr>
            <a:xfrm>
              <a:off x="2063880" y="4875120"/>
              <a:ext cx="7777080" cy="767880"/>
            </a:xfrm>
            <a:prstGeom prst="rect">
              <a:avLst/>
            </a:prstGeom>
            <a:solidFill>
              <a:srgbClr val="f4f4ef"/>
            </a:solidFill>
            <a:ln w="1908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222268"/>
                  </a:solidFill>
                  <a:latin typeface="Calibri"/>
                </a:rPr>
                <a:t>Система комплексного информационного обеспечени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8" name="Picture 2" descr=""/>
            <p:cNvPicPr/>
            <p:nvPr/>
          </p:nvPicPr>
          <p:blipFill>
            <a:blip r:embed="rId1"/>
            <a:stretch/>
          </p:blipFill>
          <p:spPr>
            <a:xfrm>
              <a:off x="2352960" y="5046120"/>
              <a:ext cx="7065360" cy="111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Text Box 4"/>
          <p:cNvSpPr/>
          <p:nvPr/>
        </p:nvSpPr>
        <p:spPr>
          <a:xfrm>
            <a:off x="966636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4D7B-1AAB-4016-85CA-0443A3E872C7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Заголовок 1"/>
          <p:cNvSpPr/>
          <p:nvPr/>
        </p:nvSpPr>
        <p:spPr>
          <a:xfrm>
            <a:off x="1919160" y="476280"/>
            <a:ext cx="80647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9c1d22"/>
                </a:solidFill>
                <a:latin typeface="Calibri"/>
              </a:rPr>
              <a:t>Модульная структур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9c1d22"/>
                </a:solidFill>
                <a:latin typeface="Calibri"/>
              </a:rPr>
              <a:t>Системы комплексного информационного обеспечения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1" name="Группа 16"/>
          <p:cNvGrpSpPr/>
          <p:nvPr/>
        </p:nvGrpSpPr>
        <p:grpSpPr>
          <a:xfrm>
            <a:off x="1584360" y="1341360"/>
            <a:ext cx="8399520" cy="5256360"/>
            <a:chOff x="1584360" y="1341360"/>
            <a:chExt cx="8399520" cy="5256360"/>
          </a:xfrm>
        </p:grpSpPr>
        <p:pic>
          <p:nvPicPr>
            <p:cNvPr id="352" name="Схема 17" descr=""/>
            <p:cNvPicPr/>
            <p:nvPr/>
          </p:nvPicPr>
          <p:blipFill>
            <a:blip r:embed="rId1"/>
            <a:stretch/>
          </p:blipFill>
          <p:spPr>
            <a:xfrm>
              <a:off x="2556360" y="1341360"/>
              <a:ext cx="5514840" cy="525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3" name="Группа 15"/>
            <p:cNvGrpSpPr/>
            <p:nvPr/>
          </p:nvGrpSpPr>
          <p:grpSpPr>
            <a:xfrm>
              <a:off x="1584360" y="3204000"/>
              <a:ext cx="1756800" cy="1494000"/>
              <a:chOff x="1584360" y="3204000"/>
              <a:chExt cx="1756800" cy="1494000"/>
            </a:xfrm>
          </p:grpSpPr>
          <p:pic>
            <p:nvPicPr>
              <p:cNvPr id="354" name="Picture 3" descr=""/>
              <p:cNvPicPr/>
              <p:nvPr/>
            </p:nvPicPr>
            <p:blipFill>
              <a:blip r:embed="rId2"/>
              <a:srcRect l="0" t="5468" r="0" b="32432"/>
              <a:stretch/>
            </p:blipFill>
            <p:spPr>
              <a:xfrm>
                <a:off x="1584360" y="3204000"/>
                <a:ext cx="1326240" cy="776520"/>
              </a:xfrm>
              <a:prstGeom prst="rect">
                <a:avLst/>
              </a:prstGeom>
              <a:ln w="9360">
                <a:solidFill>
                  <a:srgbClr val="222268"/>
                </a:solidFill>
                <a:miter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</p:pic>
          <p:pic>
            <p:nvPicPr>
              <p:cNvPr id="355" name="Picture 2" descr=""/>
              <p:cNvPicPr/>
              <p:nvPr/>
            </p:nvPicPr>
            <p:blipFill>
              <a:blip r:embed="rId3"/>
              <a:srcRect l="0" t="9935" r="0" b="4849"/>
              <a:stretch/>
            </p:blipFill>
            <p:spPr>
              <a:xfrm>
                <a:off x="1702080" y="3591360"/>
                <a:ext cx="1639080" cy="1040040"/>
              </a:xfrm>
              <a:prstGeom prst="rect">
                <a:avLst/>
              </a:prstGeom>
              <a:ln w="9360">
                <a:solidFill>
                  <a:srgbClr val="2d2d8a"/>
                </a:solidFill>
                <a:miter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</p:pic>
          <p:pic>
            <p:nvPicPr>
              <p:cNvPr id="356" name="Picture 7" descr=""/>
              <p:cNvPicPr/>
              <p:nvPr/>
            </p:nvPicPr>
            <p:blipFill>
              <a:blip r:embed="rId4"/>
              <a:srcRect l="1575" t="5890" r="4577" b="10585"/>
              <a:stretch/>
            </p:blipFill>
            <p:spPr>
              <a:xfrm>
                <a:off x="2201760" y="3980520"/>
                <a:ext cx="680400" cy="706680"/>
              </a:xfrm>
              <a:prstGeom prst="rect">
                <a:avLst/>
              </a:prstGeom>
              <a:ln w="12600">
                <a:solidFill>
                  <a:srgbClr val="222268"/>
                </a:solidFill>
                <a:miter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</p:pic>
          <p:pic>
            <p:nvPicPr>
              <p:cNvPr id="357" name="Рисунок 28" descr=""/>
              <p:cNvPicPr/>
              <p:nvPr/>
            </p:nvPicPr>
            <p:blipFill>
              <a:blip r:embed="rId5"/>
              <a:srcRect l="782" t="0" r="1028" b="9419"/>
              <a:stretch/>
            </p:blipFill>
            <p:spPr>
              <a:xfrm>
                <a:off x="2558520" y="4112280"/>
                <a:ext cx="647280" cy="585720"/>
              </a:xfrm>
              <a:prstGeom prst="rect">
                <a:avLst/>
              </a:prstGeom>
              <a:ln w="9360">
                <a:solidFill>
                  <a:srgbClr val="222268"/>
                </a:solidFill>
                <a:miter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</p:pic>
        </p:grpSp>
        <p:grpSp>
          <p:nvGrpSpPr>
            <p:cNvPr id="358" name="Прямоугольник 19"/>
            <p:cNvGrpSpPr/>
            <p:nvPr/>
          </p:nvGrpSpPr>
          <p:grpSpPr>
            <a:xfrm>
              <a:off x="8040960" y="2408400"/>
              <a:ext cx="1942920" cy="1030320"/>
              <a:chOff x="8040960" y="2408400"/>
              <a:chExt cx="1942920" cy="1030320"/>
            </a:xfrm>
          </p:grpSpPr>
          <p:pic>
            <p:nvPicPr>
              <p:cNvPr id="359" name="Прямоугольник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40960" y="2408400"/>
                <a:ext cx="1942920" cy="103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>
                <a:off x="8312040" y="2421720"/>
                <a:ext cx="1585800" cy="74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Информационное обеспечение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1" name="Прямоугольник 20"/>
            <p:cNvGrpSpPr/>
            <p:nvPr/>
          </p:nvGrpSpPr>
          <p:grpSpPr>
            <a:xfrm>
              <a:off x="8143560" y="5292720"/>
              <a:ext cx="1840320" cy="945000"/>
              <a:chOff x="8143560" y="5292720"/>
              <a:chExt cx="1840320" cy="945000"/>
            </a:xfrm>
          </p:grpSpPr>
          <p:pic>
            <p:nvPicPr>
              <p:cNvPr id="362" name="Прямоугольник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8143560" y="5292720"/>
                <a:ext cx="1840320" cy="94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>
                <a:off x="8401320" y="5308200"/>
                <a:ext cx="1496520" cy="67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Партнерский </a:t>
                </a:r>
                <a:br>
                  <a:rPr sz="1400"/>
                </a:br>
                <a:r>
                  <a:rPr b="1" lang="ru-RU" sz="14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блок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4" name="Прямоугольник 21"/>
            <p:cNvGrpSpPr/>
            <p:nvPr/>
          </p:nvGrpSpPr>
          <p:grpSpPr>
            <a:xfrm>
              <a:off x="8155800" y="4079160"/>
              <a:ext cx="1828080" cy="902520"/>
              <a:chOff x="8155800" y="4079160"/>
              <a:chExt cx="1828080" cy="902520"/>
            </a:xfrm>
          </p:grpSpPr>
          <p:pic>
            <p:nvPicPr>
              <p:cNvPr id="365" name="Прямоугольник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8155800" y="4079160"/>
                <a:ext cx="1828080" cy="9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"/>
              <p:cNvSpPr/>
              <p:nvPr/>
            </p:nvSpPr>
            <p:spPr>
              <a:xfrm>
                <a:off x="8401320" y="4091760"/>
                <a:ext cx="1496520" cy="63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Планирование и разработка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7" name="Правая фигурная скобка 22"/>
            <p:cNvSpPr/>
            <p:nvPr/>
          </p:nvSpPr>
          <p:spPr>
            <a:xfrm>
              <a:off x="8045640" y="1665360"/>
              <a:ext cx="267120" cy="2230920"/>
            </a:xfrm>
            <a:custGeom>
              <a:avLst/>
              <a:gdLst>
                <a:gd name="textAreaLeft" fmla="*/ 0 w 267120"/>
                <a:gd name="textAreaRight" fmla="*/ 96480 w 267120"/>
                <a:gd name="textAreaTop" fmla="*/ 30960 h 2230920"/>
                <a:gd name="textAreaBottom" fmla="*/ 2199960 h 223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83"/>
                    <a:pt x="10800" y="965"/>
                  </a:cubicBezTo>
                  <a:lnTo>
                    <a:pt x="10800" y="9835"/>
                  </a:lnTo>
                  <a:cubicBezTo>
                    <a:pt x="10800" y="10318"/>
                    <a:pt x="16200" y="10800"/>
                    <a:pt x="21600" y="10800"/>
                  </a:cubicBezTo>
                  <a:cubicBezTo>
                    <a:pt x="16200" y="10800"/>
                    <a:pt x="10800" y="11283"/>
                    <a:pt x="10800" y="11765"/>
                  </a:cubicBezTo>
                  <a:lnTo>
                    <a:pt x="10800" y="20635"/>
                  </a:lnTo>
                  <a:cubicBezTo>
                    <a:pt x="10800" y="2111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Штриховая стрелка вправо 23"/>
            <p:cNvSpPr/>
            <p:nvPr/>
          </p:nvSpPr>
          <p:spPr>
            <a:xfrm>
              <a:off x="8116200" y="4136400"/>
              <a:ext cx="267120" cy="538200"/>
            </a:xfrm>
            <a:custGeom>
              <a:avLst/>
              <a:gdLst/>
              <a:ahLst/>
              <a:rect l="l" t="t" r="r" b="b"/>
              <a:pathLst>
                <a:path w="269906" h="538200">
                  <a:moveTo>
                    <a:pt x="0" y="134550"/>
                  </a:moveTo>
                  <a:lnTo>
                    <a:pt x="8435" y="134550"/>
                  </a:lnTo>
                  <a:lnTo>
                    <a:pt x="8435" y="403650"/>
                  </a:lnTo>
                  <a:lnTo>
                    <a:pt x="0" y="403650"/>
                  </a:lnTo>
                  <a:lnTo>
                    <a:pt x="0" y="134550"/>
                  </a:lnTo>
                  <a:close/>
                  <a:moveTo>
                    <a:pt x="16869" y="134550"/>
                  </a:moveTo>
                  <a:lnTo>
                    <a:pt x="33738" y="134550"/>
                  </a:lnTo>
                  <a:lnTo>
                    <a:pt x="33738" y="403650"/>
                  </a:lnTo>
                  <a:lnTo>
                    <a:pt x="16869" y="403650"/>
                  </a:lnTo>
                  <a:lnTo>
                    <a:pt x="16869" y="134550"/>
                  </a:lnTo>
                  <a:close/>
                  <a:moveTo>
                    <a:pt x="42173" y="134550"/>
                  </a:moveTo>
                  <a:lnTo>
                    <a:pt x="134953" y="134550"/>
                  </a:lnTo>
                  <a:lnTo>
                    <a:pt x="134953" y="0"/>
                  </a:lnTo>
                  <a:lnTo>
                    <a:pt x="269906" y="269100"/>
                  </a:lnTo>
                  <a:lnTo>
                    <a:pt x="134953" y="538200"/>
                  </a:lnTo>
                  <a:lnTo>
                    <a:pt x="134953" y="403650"/>
                  </a:lnTo>
                  <a:lnTo>
                    <a:pt x="42173" y="403650"/>
                  </a:lnTo>
                  <a:lnTo>
                    <a:pt x="42173" y="134550"/>
                  </a:lnTo>
                  <a:close/>
                </a:path>
              </a:pathLst>
            </a:custGeom>
            <a:noFill/>
            <a:ln w="255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Правая фигурная скобка 24"/>
            <p:cNvSpPr/>
            <p:nvPr/>
          </p:nvSpPr>
          <p:spPr>
            <a:xfrm>
              <a:off x="8116200" y="4935240"/>
              <a:ext cx="267120" cy="1422720"/>
            </a:xfrm>
            <a:custGeom>
              <a:avLst/>
              <a:gdLst>
                <a:gd name="textAreaLeft" fmla="*/ 0 w 267120"/>
                <a:gd name="textAreaRight" fmla="*/ 96480 w 267120"/>
                <a:gd name="textAreaTop" fmla="*/ 30960 h 1422720"/>
                <a:gd name="textAreaBottom" fmla="*/ 1391760 h 14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57"/>
                    <a:pt x="10800" y="1514"/>
                  </a:cubicBezTo>
                  <a:lnTo>
                    <a:pt x="10800" y="9286"/>
                  </a:lnTo>
                  <a:cubicBezTo>
                    <a:pt x="10800" y="10043"/>
                    <a:pt x="16200" y="10800"/>
                    <a:pt x="21600" y="10800"/>
                  </a:cubicBezTo>
                  <a:cubicBezTo>
                    <a:pt x="16200" y="10800"/>
                    <a:pt x="10800" y="11557"/>
                    <a:pt x="10800" y="12314"/>
                  </a:cubicBezTo>
                  <a:lnTo>
                    <a:pt x="10800" y="20086"/>
                  </a:lnTo>
                  <a:cubicBezTo>
                    <a:pt x="10800" y="20843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0" name="Text Box 4"/>
          <p:cNvSpPr/>
          <p:nvPr/>
        </p:nvSpPr>
        <p:spPr>
          <a:xfrm>
            <a:off x="966960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B0B7-D05E-40DC-8E33-049ABB9631F7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134800" y="2708280"/>
            <a:ext cx="7543800" cy="93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c1d22"/>
                </a:solidFill>
                <a:latin typeface="Calibri"/>
              </a:rPr>
              <a:t>Метрология</a:t>
            </a:r>
            <a:endParaRPr b="0" lang="en-US" sz="60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966636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5092-516B-4A7F-B561-83741222151B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Заголовок 1"/>
          <p:cNvSpPr/>
          <p:nvPr/>
        </p:nvSpPr>
        <p:spPr>
          <a:xfrm>
            <a:off x="1271520" y="1844640"/>
            <a:ext cx="23036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1993 г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Прямоугольник 1"/>
          <p:cNvSpPr/>
          <p:nvPr/>
        </p:nvSpPr>
        <p:spPr>
          <a:xfrm>
            <a:off x="1665360" y="2664000"/>
            <a:ext cx="263052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b1f49"/>
                </a:solidFill>
                <a:latin typeface="Calibri"/>
              </a:rPr>
              <a:t>Разработка первых национальных эталонов Беларус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953735"/>
              </a:buClr>
              <a:buSzPct val="12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b1f49"/>
                </a:solidFill>
                <a:latin typeface="Calibri"/>
              </a:rPr>
              <a:t>времени и частот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953735"/>
              </a:buClr>
              <a:buSzPct val="12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b1f49"/>
                </a:solidFill>
                <a:latin typeface="Calibri"/>
              </a:rPr>
              <a:t>темпе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953735"/>
              </a:buClr>
              <a:buSzPct val="12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b1f49"/>
                </a:solidFill>
                <a:latin typeface="Calibri"/>
              </a:rPr>
              <a:t>напряжения переменного т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Прямоугольник 2"/>
          <p:cNvSpPr/>
          <p:nvPr/>
        </p:nvSpPr>
        <p:spPr>
          <a:xfrm>
            <a:off x="6311880" y="6308640"/>
            <a:ext cx="3672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ГНТП «Эталоны Беларус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Заголовок 1"/>
          <p:cNvSpPr/>
          <p:nvPr/>
        </p:nvSpPr>
        <p:spPr>
          <a:xfrm>
            <a:off x="4464000" y="1866960"/>
            <a:ext cx="23036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2012 г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7" name="Group 27"/>
          <p:cNvGrpSpPr/>
          <p:nvPr/>
        </p:nvGrpSpPr>
        <p:grpSpPr>
          <a:xfrm>
            <a:off x="3863880" y="2594520"/>
            <a:ext cx="3605400" cy="3801240"/>
            <a:chOff x="3863880" y="2594520"/>
            <a:chExt cx="3605400" cy="3801240"/>
          </a:xfrm>
        </p:grpSpPr>
        <p:sp>
          <p:nvSpPr>
            <p:cNvPr id="378" name="AutoShape 2"/>
            <p:cNvSpPr/>
            <p:nvPr/>
          </p:nvSpPr>
          <p:spPr>
            <a:xfrm rot="760800">
              <a:off x="4713480" y="2798640"/>
              <a:ext cx="2070360" cy="1874160"/>
            </a:xfrm>
            <a:custGeom>
              <a:avLst/>
              <a:gdLst>
                <a:gd name="textAreaLeft" fmla="*/ 1013040 w 2070360"/>
                <a:gd name="textAreaRight" fmla="*/ 1057320 w 2070360"/>
                <a:gd name="textAreaTop" fmla="*/ 916920 h 1874160"/>
                <a:gd name="textAreaBottom" fmla="*/ 957240 h 187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0473" y="10840"/>
                  </a:lnTo>
                  <a:lnTo>
                    <a:pt x="368" y="13595"/>
                  </a:lnTo>
                  <a:lnTo>
                    <a:pt x="10495" y="10923"/>
                  </a:lnTo>
                  <a:lnTo>
                    <a:pt x="1447" y="16200"/>
                  </a:lnTo>
                  <a:lnTo>
                    <a:pt x="10537" y="10998"/>
                  </a:lnTo>
                  <a:lnTo>
                    <a:pt x="3163" y="18437"/>
                  </a:lnTo>
                  <a:lnTo>
                    <a:pt x="10597" y="11059"/>
                  </a:lnTo>
                  <a:lnTo>
                    <a:pt x="5400" y="20153"/>
                  </a:lnTo>
                  <a:lnTo>
                    <a:pt x="10671" y="11103"/>
                  </a:lnTo>
                  <a:lnTo>
                    <a:pt x="8005" y="21232"/>
                  </a:lnTo>
                  <a:lnTo>
                    <a:pt x="10754" y="11126"/>
                  </a:lnTo>
                  <a:lnTo>
                    <a:pt x="10800" y="21600"/>
                  </a:lnTo>
                  <a:lnTo>
                    <a:pt x="10840" y="11127"/>
                  </a:lnTo>
                  <a:lnTo>
                    <a:pt x="13595" y="21232"/>
                  </a:lnTo>
                  <a:lnTo>
                    <a:pt x="10923" y="11105"/>
                  </a:lnTo>
                  <a:lnTo>
                    <a:pt x="16200" y="20153"/>
                  </a:lnTo>
                  <a:lnTo>
                    <a:pt x="10998" y="11063"/>
                  </a:lnTo>
                  <a:lnTo>
                    <a:pt x="18437" y="18437"/>
                  </a:lnTo>
                  <a:lnTo>
                    <a:pt x="11059" y="11003"/>
                  </a:lnTo>
                  <a:lnTo>
                    <a:pt x="20153" y="16200"/>
                  </a:lnTo>
                  <a:lnTo>
                    <a:pt x="11103" y="10929"/>
                  </a:lnTo>
                  <a:lnTo>
                    <a:pt x="21232" y="13595"/>
                  </a:lnTo>
                  <a:lnTo>
                    <a:pt x="11126" y="10846"/>
                  </a:lnTo>
                  <a:lnTo>
                    <a:pt x="21600" y="10800"/>
                  </a:lnTo>
                  <a:lnTo>
                    <a:pt x="11127" y="10760"/>
                  </a:lnTo>
                  <a:lnTo>
                    <a:pt x="21232" y="8005"/>
                  </a:lnTo>
                  <a:lnTo>
                    <a:pt x="11105" y="10677"/>
                  </a:lnTo>
                  <a:lnTo>
                    <a:pt x="20153" y="5400"/>
                  </a:lnTo>
                  <a:lnTo>
                    <a:pt x="11063" y="10602"/>
                  </a:lnTo>
                  <a:lnTo>
                    <a:pt x="18437" y="3163"/>
                  </a:lnTo>
                  <a:lnTo>
                    <a:pt x="11003" y="10541"/>
                  </a:lnTo>
                  <a:lnTo>
                    <a:pt x="16200" y="1447"/>
                  </a:lnTo>
                  <a:lnTo>
                    <a:pt x="10929" y="10497"/>
                  </a:lnTo>
                  <a:lnTo>
                    <a:pt x="13595" y="368"/>
                  </a:lnTo>
                  <a:lnTo>
                    <a:pt x="10846" y="10474"/>
                  </a:lnTo>
                  <a:lnTo>
                    <a:pt x="10800" y="0"/>
                  </a:lnTo>
                  <a:lnTo>
                    <a:pt x="10760" y="10473"/>
                  </a:lnTo>
                  <a:lnTo>
                    <a:pt x="8005" y="368"/>
                  </a:lnTo>
                  <a:lnTo>
                    <a:pt x="10677" y="10495"/>
                  </a:lnTo>
                  <a:lnTo>
                    <a:pt x="5400" y="1447"/>
                  </a:lnTo>
                  <a:lnTo>
                    <a:pt x="10602" y="10537"/>
                  </a:lnTo>
                  <a:lnTo>
                    <a:pt x="3163" y="3163"/>
                  </a:lnTo>
                  <a:lnTo>
                    <a:pt x="10541" y="10597"/>
                  </a:lnTo>
                  <a:lnTo>
                    <a:pt x="1447" y="5400"/>
                  </a:lnTo>
                  <a:lnTo>
                    <a:pt x="10497" y="10671"/>
                  </a:lnTo>
                  <a:lnTo>
                    <a:pt x="368" y="8005"/>
                  </a:lnTo>
                  <a:lnTo>
                    <a:pt x="10474" y="107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9" name="Group 4"/>
            <p:cNvGrpSpPr/>
            <p:nvPr/>
          </p:nvGrpSpPr>
          <p:grpSpPr>
            <a:xfrm>
              <a:off x="5311440" y="2839680"/>
              <a:ext cx="897480" cy="1340280"/>
              <a:chOff x="5311440" y="2839680"/>
              <a:chExt cx="897480" cy="1340280"/>
            </a:xfrm>
          </p:grpSpPr>
          <p:pic>
            <p:nvPicPr>
              <p:cNvPr id="380" name="Picture 6" descr="COLUMN4"/>
              <p:cNvPicPr/>
              <p:nvPr/>
            </p:nvPicPr>
            <p:blipFill>
              <a:blip r:embed="rId1"/>
              <a:stretch/>
            </p:blipFill>
            <p:spPr>
              <a:xfrm flipH="1">
                <a:off x="5556600" y="3733560"/>
                <a:ext cx="385920" cy="446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Picture 7" descr="BIPM_2"/>
              <p:cNvPicPr/>
              <p:nvPr/>
            </p:nvPicPr>
            <p:blipFill>
              <a:blip r:embed="rId2"/>
              <a:stretch/>
            </p:blipFill>
            <p:spPr>
              <a:xfrm>
                <a:off x="5311440" y="2839680"/>
                <a:ext cx="897480" cy="869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2" name="Group 8"/>
            <p:cNvGrpSpPr/>
            <p:nvPr/>
          </p:nvGrpSpPr>
          <p:grpSpPr>
            <a:xfrm>
              <a:off x="4100760" y="2754360"/>
              <a:ext cx="1081800" cy="2094840"/>
              <a:chOff x="4100760" y="2754360"/>
              <a:chExt cx="1081800" cy="2094840"/>
            </a:xfrm>
          </p:grpSpPr>
          <p:pic>
            <p:nvPicPr>
              <p:cNvPr id="383" name="Picture 9" descr=""/>
              <p:cNvPicPr/>
              <p:nvPr/>
            </p:nvPicPr>
            <p:blipFill>
              <a:blip r:embed="rId3"/>
              <a:stretch/>
            </p:blipFill>
            <p:spPr>
              <a:xfrm>
                <a:off x="4509360" y="2910600"/>
                <a:ext cx="473400" cy="35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4" name="Pictur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4289400" y="3158640"/>
                <a:ext cx="514800" cy="37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" name="Pictur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4188600" y="3401280"/>
                <a:ext cx="520200" cy="38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Picture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4706640" y="4548960"/>
                <a:ext cx="402840" cy="30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7" name="Picture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4461840" y="4298760"/>
                <a:ext cx="485280" cy="35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8" name="Pictur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4680" y="3999960"/>
                <a:ext cx="549360" cy="41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" name="Picture 15" descr=""/>
              <p:cNvPicPr/>
              <p:nvPr/>
            </p:nvPicPr>
            <p:blipFill>
              <a:blip r:embed="rId9"/>
              <a:stretch/>
            </p:blipFill>
            <p:spPr>
              <a:xfrm>
                <a:off x="4100760" y="3645000"/>
                <a:ext cx="625680" cy="45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0" name="Picture 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00960" y="2754360"/>
                <a:ext cx="381600" cy="279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1" name="Group 17"/>
            <p:cNvGrpSpPr/>
            <p:nvPr/>
          </p:nvGrpSpPr>
          <p:grpSpPr>
            <a:xfrm>
              <a:off x="6272640" y="2767320"/>
              <a:ext cx="1126080" cy="2056680"/>
              <a:chOff x="6272640" y="2767320"/>
              <a:chExt cx="1126080" cy="2056680"/>
            </a:xfrm>
          </p:grpSpPr>
          <p:pic>
            <p:nvPicPr>
              <p:cNvPr id="392" name="Picture 18" descr=""/>
              <p:cNvPicPr/>
              <p:nvPr/>
            </p:nvPicPr>
            <p:blipFill>
              <a:blip r:embed="rId11"/>
              <a:stretch/>
            </p:blipFill>
            <p:spPr>
              <a:xfrm>
                <a:off x="6272640" y="2767320"/>
                <a:ext cx="371160" cy="27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3" name="Picture 19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21400" y="2909160"/>
                <a:ext cx="477000" cy="35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4" name="Picture 20" descr=""/>
              <p:cNvPicPr/>
              <p:nvPr/>
            </p:nvPicPr>
            <p:blipFill>
              <a:blip r:embed="rId13"/>
              <a:stretch/>
            </p:blipFill>
            <p:spPr>
              <a:xfrm>
                <a:off x="6660000" y="3122280"/>
                <a:ext cx="486360" cy="36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5" name="Picture 21" descr=""/>
              <p:cNvPicPr/>
              <p:nvPr/>
            </p:nvPicPr>
            <p:blipFill>
              <a:blip r:embed="rId14"/>
              <a:stretch/>
            </p:blipFill>
            <p:spPr>
              <a:xfrm>
                <a:off x="6791040" y="3413880"/>
                <a:ext cx="505080" cy="36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6" name="Picture 22" descr=""/>
              <p:cNvPicPr/>
              <p:nvPr/>
            </p:nvPicPr>
            <p:blipFill>
              <a:blip r:embed="rId15"/>
              <a:stretch/>
            </p:blipFill>
            <p:spPr>
              <a:xfrm>
                <a:off x="6740280" y="4053600"/>
                <a:ext cx="532440" cy="3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7" name="Picture 23" descr=""/>
              <p:cNvPicPr/>
              <p:nvPr/>
            </p:nvPicPr>
            <p:blipFill>
              <a:blip r:embed="rId16"/>
              <a:stretch/>
            </p:blipFill>
            <p:spPr>
              <a:xfrm>
                <a:off x="6575400" y="4324680"/>
                <a:ext cx="457200" cy="33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8" name="Picture 2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404040" y="4558680"/>
                <a:ext cx="356400" cy="26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9" name="Picture 25" descr=""/>
              <p:cNvPicPr/>
              <p:nvPr/>
            </p:nvPicPr>
            <p:blipFill>
              <a:blip r:embed="rId18"/>
              <a:stretch/>
            </p:blipFill>
            <p:spPr>
              <a:xfrm>
                <a:off x="6791760" y="3673800"/>
                <a:ext cx="606960" cy="449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0" name="AutoShape 26"/>
            <p:cNvSpPr/>
            <p:nvPr/>
          </p:nvSpPr>
          <p:spPr>
            <a:xfrm>
              <a:off x="3863880" y="4873680"/>
              <a:ext cx="3605400" cy="15220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Arial"/>
                  <a:ea typeface="Arial"/>
                </a:rPr>
                <a:t>39 </a:t>
              </a:r>
              <a:r>
                <a:rPr b="1" lang="ru-RU" sz="2800" spc="-1" strike="noStrike">
                  <a:solidFill>
                    <a:srgbClr val="002060"/>
                  </a:solidFill>
                  <a:latin typeface="Arial"/>
                  <a:ea typeface="Arial"/>
                </a:rPr>
                <a:t>государственных эталонов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1" name="Заголовок 1"/>
          <p:cNvSpPr/>
          <p:nvPr/>
        </p:nvSpPr>
        <p:spPr>
          <a:xfrm>
            <a:off x="7338960" y="1839960"/>
            <a:ext cx="28083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до 2015 г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Прямоугольник 35"/>
          <p:cNvSpPr/>
          <p:nvPr/>
        </p:nvSpPr>
        <p:spPr>
          <a:xfrm>
            <a:off x="7775640" y="2997360"/>
            <a:ext cx="250488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b1f49"/>
                </a:solidFill>
                <a:latin typeface="Arial"/>
                <a:ea typeface="Arial"/>
              </a:rPr>
              <a:t>Создание</a:t>
            </a:r>
            <a:r>
              <a:rPr b="0" lang="ru-RU" sz="1800" spc="-1" strike="noStrike">
                <a:solidFill>
                  <a:srgbClr val="1b1f49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32 </a:t>
            </a:r>
            <a:r>
              <a:rPr b="1" lang="ru-RU" sz="1800" spc="-1" strike="noStrike">
                <a:solidFill>
                  <a:srgbClr val="1b1f49"/>
                </a:solidFill>
                <a:latin typeface="Arial"/>
                <a:ea typeface="Arial"/>
              </a:rPr>
              <a:t>государственных эталон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Стрелка вправо 36" descr=""/>
          <p:cNvPicPr/>
          <p:nvPr/>
        </p:nvPicPr>
        <p:blipFill>
          <a:blip r:embed="rId19"/>
          <a:stretch/>
        </p:blipFill>
        <p:spPr>
          <a:xfrm>
            <a:off x="3535200" y="1974960"/>
            <a:ext cx="702000" cy="585720"/>
          </a:xfrm>
          <a:prstGeom prst="rect">
            <a:avLst/>
          </a:prstGeom>
          <a:ln w="0">
            <a:noFill/>
          </a:ln>
        </p:spPr>
      </p:pic>
      <p:pic>
        <p:nvPicPr>
          <p:cNvPr id="404" name="Стрелка вправо 37" descr=""/>
          <p:cNvPicPr/>
          <p:nvPr/>
        </p:nvPicPr>
        <p:blipFill>
          <a:blip r:embed="rId20"/>
          <a:stretch/>
        </p:blipFill>
        <p:spPr>
          <a:xfrm>
            <a:off x="6772320" y="1974960"/>
            <a:ext cx="701640" cy="58572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2"/>
          <p:cNvSpPr/>
          <p:nvPr/>
        </p:nvSpPr>
        <p:spPr>
          <a:xfrm>
            <a:off x="2135160" y="139680"/>
            <a:ext cx="7489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c1d22"/>
                </a:solidFill>
                <a:latin typeface="Calibri"/>
              </a:rPr>
              <a:t>ЭТАЛОННАЯ  БАЗА  </a:t>
            </a:r>
            <a:br>
              <a:rPr sz="3600"/>
            </a:br>
            <a:r>
              <a:rPr b="1" lang="ru-RU" sz="3600" spc="-1" strike="noStrike">
                <a:solidFill>
                  <a:srgbClr val="9c1d22"/>
                </a:solidFill>
                <a:latin typeface="Calibri"/>
              </a:rPr>
              <a:t>РЕСПУБЛИКИ  БЕЛАРУС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967176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76D9-8046-4FC9-BF51-09BE86024942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4"/>
          <p:cNvSpPr/>
          <p:nvPr/>
        </p:nvSpPr>
        <p:spPr>
          <a:xfrm>
            <a:off x="966240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C680-01AA-41BB-BE43-28EB36AFA4BB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Прямоугольник 4"/>
          <p:cNvSpPr/>
          <p:nvPr/>
        </p:nvSpPr>
        <p:spPr>
          <a:xfrm>
            <a:off x="1876320" y="1197000"/>
            <a:ext cx="6883560" cy="1008720"/>
          </a:xfrm>
          <a:prstGeom prst="rect">
            <a:avLst/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alibri"/>
                <a:ea typeface="Calibri"/>
              </a:rPr>
              <a:t>Создано и эксплуатирует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alibri"/>
                <a:ea typeface="Calibri"/>
              </a:rPr>
              <a:t>24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 Национальных этал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alibri"/>
                <a:ea typeface="Calibri"/>
              </a:rPr>
              <a:t>25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 исходных эталон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 Box 29"/>
          <p:cNvSpPr/>
          <p:nvPr/>
        </p:nvSpPr>
        <p:spPr>
          <a:xfrm>
            <a:off x="1774800" y="2276640"/>
            <a:ext cx="78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Calibri"/>
                <a:ea typeface="Arial"/>
              </a:rPr>
              <a:t>В 2014 году завершены работы по созданию 6 эталон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774800" y="2770200"/>
          <a:ext cx="8137440" cy="1019160"/>
        </p:xfrm>
        <a:graphic>
          <a:graphicData uri="http://schemas.openxmlformats.org/drawingml/2006/table">
            <a:tbl>
              <a:tblPr/>
              <a:tblGrid>
                <a:gridCol w="1744560"/>
                <a:gridCol w="6392880"/>
              </a:tblGrid>
              <a:tr h="298440"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</a:rPr>
                        <a:t>Энерго-сбере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fdf4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Calibri"/>
                        </a:rPr>
                        <a:t>Национальный эталон единицы теплопровод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fdf4e7"/>
                    </a:solidFill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Calibri"/>
                        </a:rPr>
                        <a:t>Национальный эталон единицы индуктив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fdf4e7"/>
                    </a:solidFill>
                  </a:tcPr>
                </a:tc>
              </a:tr>
              <a:tr h="55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Calibri"/>
                        </a:rPr>
                        <a:t>Эталон единицы магнитной индукции переменного магнитного пол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fdf4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1774800" y="4067280"/>
          <a:ext cx="8137440" cy="1017360"/>
        </p:xfrm>
        <a:graphic>
          <a:graphicData uri="http://schemas.openxmlformats.org/drawingml/2006/table">
            <a:tbl>
              <a:tblPr/>
              <a:tblGrid>
                <a:gridCol w="1744560"/>
                <a:gridCol w="6392880"/>
              </a:tblGrid>
              <a:tr h="1017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</a:rPr>
                        <a:t>Связ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fdf4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Calibri"/>
                        </a:rPr>
                        <a:t>Национальный эталон  единиц средней мощности, ослабления и длины волны оптического излучения для волоконно-оптических систем связи и передачи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fdf4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1774800" y="5300640"/>
          <a:ext cx="8137440" cy="1019160"/>
        </p:xfrm>
        <a:graphic>
          <a:graphicData uri="http://schemas.openxmlformats.org/drawingml/2006/table">
            <a:tbl>
              <a:tblPr/>
              <a:tblGrid>
                <a:gridCol w="1716120"/>
                <a:gridCol w="6421320"/>
              </a:tblGrid>
              <a:tr h="29844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</a:rPr>
                        <a:t>Электро-магнитная совмест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fdf4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Calibri"/>
                        </a:rPr>
                        <a:t>Эталон единицы плотности потока энергии электромагнитного п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fdf4e7"/>
                    </a:solidFill>
                  </a:tcPr>
                </a:tc>
              </a:tr>
              <a:tr h="79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Calibri"/>
                        </a:rPr>
                        <a:t>Исходный эталон единицы ослабления электромагнитных колебаний в диапазоне частот от 0 до 37,5 ГГ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fdf4e7"/>
                    </a:solidFill>
                  </a:tcPr>
                </a:tc>
              </a:tr>
            </a:tbl>
          </a:graphicData>
        </a:graphic>
      </p:graphicFrame>
      <p:sp>
        <p:nvSpPr>
          <p:cNvPr id="413" name="Прямоугольник 12"/>
          <p:cNvSpPr/>
          <p:nvPr/>
        </p:nvSpPr>
        <p:spPr>
          <a:xfrm>
            <a:off x="2639880" y="404640"/>
            <a:ext cx="63691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РАЗВИТИЕ  ЭТАЛОННОЙ  БА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7"/>
          <p:cNvSpPr/>
          <p:nvPr/>
        </p:nvSpPr>
        <p:spPr>
          <a:xfrm flipH="1">
            <a:off x="7031880" y="1484280"/>
            <a:ext cx="2754360" cy="1373400"/>
          </a:xfrm>
          <a:prstGeom prst="wedgeRectCallout">
            <a:avLst>
              <a:gd name="adj1" fmla="val 73166"/>
              <a:gd name="adj2" fmla="val 34620"/>
            </a:avLst>
          </a:prstGeom>
          <a:solidFill>
            <a:srgbClr val="e1ebff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AutoShape 25"/>
          <p:cNvSpPr/>
          <p:nvPr/>
        </p:nvSpPr>
        <p:spPr>
          <a:xfrm flipH="1">
            <a:off x="7168320" y="3149640"/>
            <a:ext cx="2760840" cy="1452600"/>
          </a:xfrm>
          <a:prstGeom prst="wedgeRectCallout">
            <a:avLst>
              <a:gd name="adj1" fmla="val 63685"/>
              <a:gd name="adj2" fmla="val -39949"/>
            </a:avLst>
          </a:prstGeom>
          <a:solidFill>
            <a:srgbClr val="fdf7f5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1641600" y="1490760"/>
            <a:ext cx="2752560" cy="1373040"/>
          </a:xfrm>
          <a:prstGeom prst="wedgeRectCallout">
            <a:avLst>
              <a:gd name="adj1" fmla="val 72606"/>
              <a:gd name="adj2" fmla="val 36009"/>
            </a:avLst>
          </a:prstGeom>
          <a:solidFill>
            <a:srgbClr val="ffffe5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835520" y="2759040"/>
            <a:ext cx="1981080" cy="11080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1631880" y="1641600"/>
            <a:ext cx="2760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нвестиционные проекты </a:t>
            </a:r>
            <a:br>
              <a:rPr sz="1600"/>
            </a:b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о модернизации производст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7324560" y="1609560"/>
            <a:ext cx="225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Государственные программы </a:t>
            </a:r>
            <a:br>
              <a:rPr sz="1600"/>
            </a:b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о разработке новой продук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4656240" y="31194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ДУК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AutoShape 11"/>
          <p:cNvSpPr/>
          <p:nvPr/>
        </p:nvSpPr>
        <p:spPr>
          <a:xfrm>
            <a:off x="1666800" y="3146400"/>
            <a:ext cx="2735280" cy="1452600"/>
          </a:xfrm>
          <a:prstGeom prst="wedgeRectCallout">
            <a:avLst>
              <a:gd name="adj1" fmla="val 63986"/>
              <a:gd name="adj2" fmla="val -35245"/>
            </a:avLst>
          </a:prstGeom>
          <a:solidFill>
            <a:srgbClr val="d9ffd9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12"/>
          <p:cNvSpPr/>
          <p:nvPr/>
        </p:nvSpPr>
        <p:spPr>
          <a:xfrm>
            <a:off x="1666800" y="3218040"/>
            <a:ext cx="2592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ТНПА на продукцию, гармонизированные </a:t>
            </a:r>
            <a:br>
              <a:rPr sz="1600"/>
            </a:b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 международными </a:t>
            </a:r>
            <a:br>
              <a:rPr sz="1600"/>
            </a:b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 европейскими требования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13"/>
          <p:cNvSpPr/>
          <p:nvPr/>
        </p:nvSpPr>
        <p:spPr>
          <a:xfrm>
            <a:off x="7248600" y="3417840"/>
            <a:ext cx="25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ТНПА </a:t>
            </a:r>
            <a:br>
              <a:rPr sz="1600"/>
            </a:b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 методы </a:t>
            </a:r>
            <a:br>
              <a:rPr sz="1600"/>
            </a:b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спытаний продук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4368960" y="4741920"/>
            <a:ext cx="3051000" cy="15732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 Box 15"/>
          <p:cNvSpPr/>
          <p:nvPr/>
        </p:nvSpPr>
        <p:spPr>
          <a:xfrm>
            <a:off x="4462560" y="4784760"/>
            <a:ext cx="2865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граммы  обновления и переоснащения испытательной базы предприятий и испытательных организац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AutoShape 16"/>
          <p:cNvSpPr/>
          <p:nvPr/>
        </p:nvSpPr>
        <p:spPr>
          <a:xfrm>
            <a:off x="5651640" y="3983040"/>
            <a:ext cx="612720" cy="708120"/>
          </a:xfrm>
          <a:prstGeom prst="upDownArrow">
            <a:avLst>
              <a:gd name="adj1" fmla="val 50000"/>
              <a:gd name="adj2" fmla="val 23007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AutoShape 18"/>
          <p:cNvSpPr/>
          <p:nvPr/>
        </p:nvSpPr>
        <p:spPr>
          <a:xfrm flipH="1">
            <a:off x="2422440" y="4587840"/>
            <a:ext cx="1944720" cy="649440"/>
          </a:xfrm>
          <a:custGeom>
            <a:avLst/>
            <a:gdLst>
              <a:gd name="textAreaLeft" fmla="*/ 196920 w 1944720"/>
              <a:gd name="textAreaRight" fmla="*/ 1667160 w 1944720"/>
              <a:gd name="textAreaTop" fmla="*/ 455040 h 649440"/>
              <a:gd name="textAreaBottom" fmla="*/ 556920 h 649440"/>
            </a:gdLst>
            <a:ahLst/>
            <a:rect l="textAreaLeft" t="textAreaTop" r="textAreaRight" b="textAreaBottom"/>
            <a:pathLst>
              <a:path w="21600" h="21600">
                <a:moveTo>
                  <a:pt x="16821" y="0"/>
                </a:moveTo>
                <a:lnTo>
                  <a:pt x="12041" y="6171"/>
                </a:lnTo>
                <a:lnTo>
                  <a:pt x="15127" y="6171"/>
                </a:lnTo>
                <a:lnTo>
                  <a:pt x="15127" y="15127"/>
                </a:lnTo>
                <a:lnTo>
                  <a:pt x="6171" y="15127"/>
                </a:lnTo>
                <a:lnTo>
                  <a:pt x="6171" y="12041"/>
                </a:lnTo>
                <a:lnTo>
                  <a:pt x="0" y="16821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6821" y="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19"/>
          <p:cNvSpPr/>
          <p:nvPr/>
        </p:nvSpPr>
        <p:spPr>
          <a:xfrm>
            <a:off x="1752480" y="115920"/>
            <a:ext cx="80391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c1d22"/>
                </a:solidFill>
                <a:latin typeface="Calibri"/>
              </a:rPr>
              <a:t>ОБЕСПЕЧЕНИЕ  ИСПЫТАНИЙ  ПРОДУКЦИИ </a:t>
            </a:r>
            <a:br>
              <a:rPr sz="2500"/>
            </a:br>
            <a:r>
              <a:rPr b="1" lang="ru-RU" sz="2500" spc="-1" strike="noStrike">
                <a:solidFill>
                  <a:srgbClr val="9c1d22"/>
                </a:solidFill>
                <a:latin typeface="Calibri"/>
              </a:rPr>
              <a:t>НА  СОВРЕМЕННОМ  ЭТАПЕ  РАЗВИТИЯ ПРОИЗВОДСТВ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AutoShape 21"/>
          <p:cNvSpPr/>
          <p:nvPr/>
        </p:nvSpPr>
        <p:spPr>
          <a:xfrm>
            <a:off x="7391520" y="4587840"/>
            <a:ext cx="1787400" cy="649440"/>
          </a:xfrm>
          <a:custGeom>
            <a:avLst/>
            <a:gdLst>
              <a:gd name="textAreaLeft" fmla="*/ 180720 w 1787400"/>
              <a:gd name="textAreaRight" fmla="*/ 1532160 w 1787400"/>
              <a:gd name="textAreaTop" fmla="*/ 455040 h 649440"/>
              <a:gd name="textAreaBottom" fmla="*/ 556920 h 649440"/>
            </a:gdLst>
            <a:ahLst/>
            <a:rect l="textAreaLeft" t="textAreaTop" r="textAreaRight" b="textAreaBottom"/>
            <a:pathLst>
              <a:path w="21600" h="21600">
                <a:moveTo>
                  <a:pt x="16821" y="0"/>
                </a:moveTo>
                <a:lnTo>
                  <a:pt x="12041" y="6171"/>
                </a:lnTo>
                <a:lnTo>
                  <a:pt x="15127" y="6171"/>
                </a:lnTo>
                <a:lnTo>
                  <a:pt x="15127" y="15127"/>
                </a:lnTo>
                <a:lnTo>
                  <a:pt x="6171" y="15127"/>
                </a:lnTo>
                <a:lnTo>
                  <a:pt x="6171" y="12041"/>
                </a:lnTo>
                <a:lnTo>
                  <a:pt x="0" y="16821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6821" y="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Picture 11" descr="1-lab"/>
          <p:cNvPicPr/>
          <p:nvPr/>
        </p:nvPicPr>
        <p:blipFill>
          <a:blip r:embed="rId1"/>
          <a:stretch/>
        </p:blipFill>
        <p:spPr>
          <a:xfrm>
            <a:off x="7994520" y="5235480"/>
            <a:ext cx="1917720" cy="13176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431" name="Picture 28" descr=""/>
          <p:cNvPicPr/>
          <p:nvPr/>
        </p:nvPicPr>
        <p:blipFill>
          <a:blip r:embed="rId2"/>
          <a:stretch/>
        </p:blipFill>
        <p:spPr>
          <a:xfrm>
            <a:off x="1622520" y="5200560"/>
            <a:ext cx="1952640" cy="1403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32" name="Text Box 4"/>
          <p:cNvSpPr/>
          <p:nvPr/>
        </p:nvSpPr>
        <p:spPr>
          <a:xfrm>
            <a:off x="966636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1051-0035-42F4-B1D1-BFD67599C79F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1904760"/>
            <a:ext cx="100584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c1d22"/>
                </a:solidFill>
                <a:latin typeface="Calibri"/>
              </a:rPr>
              <a:t>Техническое нормирование и стандартизация</a:t>
            </a:r>
            <a:endParaRPr b="0" lang="en-US" sz="60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971712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C022-B70D-428C-B03D-CFA0B3DA7DC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2"/>
          <p:cNvSpPr/>
          <p:nvPr/>
        </p:nvSpPr>
        <p:spPr>
          <a:xfrm>
            <a:off x="2279520" y="2133720"/>
            <a:ext cx="7234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c1d22"/>
                </a:solidFill>
                <a:latin typeface="Calibri"/>
              </a:rPr>
              <a:t>Оценка  соответствия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64656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7F24-89C0-4305-B83C-28F9F9A13564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Объект 1"/>
          <p:cNvSpPr/>
          <p:nvPr/>
        </p:nvSpPr>
        <p:spPr>
          <a:xfrm>
            <a:off x="2071800" y="2131920"/>
            <a:ext cx="756108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1d22"/>
                </a:solidFill>
                <a:latin typeface="Calibri"/>
                <a:ea typeface="Calibri"/>
              </a:rPr>
              <a:t>Формы оценки </a:t>
            </a:r>
            <a:r>
              <a:rPr b="1" lang="ru-RU" sz="2000" spc="-1" strike="noStrike">
                <a:solidFill>
                  <a:srgbClr val="2b2e4b"/>
                </a:solidFill>
                <a:latin typeface="Calibri"/>
                <a:ea typeface="Calibri"/>
              </a:rPr>
              <a:t>соответствия: сертификация, декларирование, испытания и иные формы по ТР Т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2e4b"/>
                </a:solidFill>
                <a:latin typeface="Calibri"/>
                <a:ea typeface="Calibri"/>
              </a:rPr>
              <a:t>Выделение </a:t>
            </a:r>
            <a:r>
              <a:rPr b="1" lang="ru-RU" sz="2000" spc="-1" strike="noStrike">
                <a:solidFill>
                  <a:srgbClr val="9c1d22"/>
                </a:solidFill>
                <a:latin typeface="Calibri"/>
                <a:ea typeface="Calibri"/>
              </a:rPr>
              <a:t>аккредитации </a:t>
            </a:r>
            <a:r>
              <a:rPr b="1" lang="ru-RU" sz="2000" spc="-1" strike="noStrike">
                <a:solidFill>
                  <a:srgbClr val="2b2e4b"/>
                </a:solidFill>
                <a:latin typeface="Calibri"/>
                <a:ea typeface="Calibri"/>
              </a:rPr>
              <a:t>из сферы действия термина «оценка соответствия»  и развитие вопросов аккредитац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2e4b"/>
                </a:solidFill>
                <a:latin typeface="Calibri"/>
                <a:ea typeface="Calibri"/>
              </a:rPr>
              <a:t>Расширение перечня документов, содержащих технические требования, на соответствие которым может проводиться оценка соответствия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:</a:t>
            </a:r>
            <a:r>
              <a:rPr b="1" lang="ru-RU" sz="2000" spc="-1" strike="noStrike">
                <a:solidFill>
                  <a:srgbClr val="c0504d"/>
                </a:solidFill>
                <a:latin typeface="Calibri"/>
                <a:ea typeface="Calibri"/>
              </a:rPr>
              <a:t>  </a:t>
            </a:r>
            <a:r>
              <a:rPr b="1" lang="ru-RU" sz="2000" spc="-1" strike="noStrike">
                <a:solidFill>
                  <a:srgbClr val="9c1d22"/>
                </a:solidFill>
                <a:latin typeface="Calibri"/>
                <a:ea typeface="Calibri"/>
              </a:rPr>
              <a:t>ТР РБ, ТР ТС, ГОСТ (СТБ), ТУ, документы иностранных государств, договора </a:t>
            </a:r>
            <a:r>
              <a:rPr b="1" lang="ru-RU" sz="2000" spc="-1" strike="noStrike">
                <a:solidFill>
                  <a:srgbClr val="2b2e4b"/>
                </a:solidFill>
                <a:latin typeface="Calibri"/>
                <a:ea typeface="Calibri"/>
              </a:rPr>
              <a:t>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2e4b"/>
                </a:solidFill>
                <a:latin typeface="Calibri"/>
                <a:ea typeface="Calibri"/>
              </a:rPr>
              <a:t>Введение института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уполномоченных</a:t>
            </a:r>
            <a:r>
              <a:rPr b="1" lang="ru-RU" sz="2000" spc="-1" strike="noStrike">
                <a:solidFill>
                  <a:srgbClr val="c0504d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2b2e4b"/>
                </a:solidFill>
                <a:latin typeface="Calibri"/>
                <a:ea typeface="Calibri"/>
              </a:rPr>
              <a:t>органов по регистрации деклараций о соответств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Прямоугольник 6"/>
          <p:cNvSpPr/>
          <p:nvPr/>
        </p:nvSpPr>
        <p:spPr>
          <a:xfrm>
            <a:off x="7464600" y="1500120"/>
            <a:ext cx="1720800" cy="3988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оек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Прямоугольник 3"/>
          <p:cNvSpPr/>
          <p:nvPr/>
        </p:nvSpPr>
        <p:spPr>
          <a:xfrm>
            <a:off x="1411200" y="189000"/>
            <a:ext cx="864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1d22"/>
                </a:solidFill>
                <a:latin typeface="Calibri"/>
              </a:rPr>
              <a:t>ЗАКОН РЕСПУБЛИКИ БЕЛАРУ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1d22"/>
                </a:solidFill>
                <a:latin typeface="Calibri"/>
              </a:rPr>
              <a:t>«ОБ ОЦЕНКЕ СООТВЕТСТИЯ ТЕХНИЧЕСКИМ ТРЕБОВАНИЯМ И АККРЕДИТАЦИИ ОРГАНОВ ОБ ОЦЕНКЕ СООТВЕТСТ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966708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019C-7868-4BA3-8BB0-3A901AA1F5B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Заголовок 1"/>
          <p:cNvSpPr/>
          <p:nvPr/>
        </p:nvSpPr>
        <p:spPr>
          <a:xfrm>
            <a:off x="1633680" y="18900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1d22"/>
                </a:solidFill>
                <a:latin typeface="Calibri"/>
              </a:rPr>
              <a:t>СОЗДАНИЕ УСЛОВИЙ  ДЛЯ  ЭКСПОР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965268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E9C5-F835-4B61-8648-F202FAB6EB3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1" name="Группа 8"/>
          <p:cNvGrpSpPr/>
          <p:nvPr/>
        </p:nvGrpSpPr>
        <p:grpSpPr>
          <a:xfrm>
            <a:off x="1558800" y="1119240"/>
            <a:ext cx="5761080" cy="5622840"/>
            <a:chOff x="1558800" y="1119240"/>
            <a:chExt cx="5761080" cy="5622840"/>
          </a:xfrm>
        </p:grpSpPr>
        <p:sp>
          <p:nvSpPr>
            <p:cNvPr id="442" name="Полилиния 13"/>
            <p:cNvSpPr/>
            <p:nvPr/>
          </p:nvSpPr>
          <p:spPr>
            <a:xfrm>
              <a:off x="2711160" y="1119240"/>
              <a:ext cx="4608720" cy="1158840"/>
            </a:xfrm>
            <a:prstGeom prst="pie">
              <a:avLst/>
            </a:prstGeom>
            <a:solidFill>
              <a:srgbClr val="e9edf4">
                <a:alpha val="90000"/>
              </a:srgbClr>
            </a:solidFill>
            <a:ln w="19080">
              <a:solidFill>
                <a:srgbClr val="002060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167040" tIns="125280" bIns="12528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74"/>
                </a:spcAft>
                <a:buClr>
                  <a:srgbClr val="800000"/>
                </a:buClr>
                <a:buFont typeface="Calibri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Calibri"/>
                </a:rPr>
                <a:t>Договор о Евразийском экономическом союз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Полилиния 14"/>
            <p:cNvSpPr/>
            <p:nvPr/>
          </p:nvSpPr>
          <p:spPr>
            <a:xfrm>
              <a:off x="1558800" y="1174680"/>
              <a:ext cx="1152360" cy="763560"/>
            </a:xfrm>
            <a:prstGeom prst="pie">
              <a:avLst/>
            </a:prstGeom>
            <a:solidFill>
              <a:srgbClr val="00206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86760" bIns="86760" anchor="ctr">
              <a:noAutofit/>
            </a:bodyPr>
            <a:p>
              <a:pPr algn="ctr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Calibri"/>
                </a:rPr>
                <a:t>ЕАЭС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Полилиния 15"/>
            <p:cNvSpPr/>
            <p:nvPr/>
          </p:nvSpPr>
          <p:spPr>
            <a:xfrm>
              <a:off x="2711160" y="2349360"/>
              <a:ext cx="4608720" cy="2344680"/>
            </a:xfrm>
            <a:prstGeom prst="pie">
              <a:avLst/>
            </a:prstGeom>
            <a:solidFill>
              <a:srgbClr val="e9edf4">
                <a:alpha val="90000"/>
              </a:srgbClr>
            </a:solidFill>
            <a:ln w="19080">
              <a:solidFill>
                <a:srgbClr val="002060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140400" tIns="111960" bIns="111960" anchor="ctr">
              <a:noAutofit/>
            </a:bodyPr>
            <a:p>
              <a:pPr lvl="1" marL="177840" indent="-177840">
                <a:lnSpc>
                  <a:spcPct val="90000"/>
                </a:lnSpc>
                <a:spcAft>
                  <a:spcPts val="337"/>
                </a:spcAft>
                <a:buClr>
                  <a:srgbClr val="800000"/>
                </a:buClr>
                <a:buFont typeface="Calibri"/>
                <a:buChar char="•"/>
                <a:tabLst>
                  <a:tab algn="l" pos="666720"/>
                  <a:tab algn="l" pos="1333440"/>
                  <a:tab algn="l" pos="2000160"/>
                  <a:tab algn="l" pos="2666880"/>
                  <a:tab algn="l" pos="3333600"/>
                  <a:tab algn="l" pos="4000680"/>
                  <a:tab algn="l" pos="4667400"/>
                  <a:tab algn="l" pos="5334120"/>
                  <a:tab algn="l" pos="6000840"/>
                  <a:tab algn="l" pos="6667560"/>
                  <a:tab algn="l" pos="7334280"/>
                  <a:tab algn="l" pos="8001000"/>
                  <a:tab algn="l" pos="8667720"/>
                  <a:tab algn="l" pos="9334440"/>
                  <a:tab algn="l" pos="10001160"/>
                  <a:tab algn="l" pos="1066788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Calibri"/>
                </a:rPr>
                <a:t>Соглашение о проведении согласованной политики в области стандартизации, метрологии и сертификаци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7840" indent="-177840">
                <a:lnSpc>
                  <a:spcPct val="90000"/>
                </a:lnSpc>
                <a:spcAft>
                  <a:spcPts val="337"/>
                </a:spcAft>
                <a:buClr>
                  <a:srgbClr val="800000"/>
                </a:buClr>
                <a:buFont typeface="Calibri"/>
                <a:buChar char="•"/>
                <a:tabLst>
                  <a:tab algn="l" pos="666720"/>
                  <a:tab algn="l" pos="1333440"/>
                  <a:tab algn="l" pos="2000160"/>
                  <a:tab algn="l" pos="2666880"/>
                  <a:tab algn="l" pos="3333600"/>
                  <a:tab algn="l" pos="4000680"/>
                  <a:tab algn="l" pos="4667400"/>
                  <a:tab algn="l" pos="5334120"/>
                  <a:tab algn="l" pos="6000840"/>
                  <a:tab algn="l" pos="6667560"/>
                  <a:tab algn="l" pos="7334280"/>
                  <a:tab algn="l" pos="8001000"/>
                  <a:tab algn="l" pos="8667720"/>
                  <a:tab algn="l" pos="9334440"/>
                  <a:tab algn="l" pos="10001160"/>
                  <a:tab algn="l" pos="1066788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Calibri"/>
                </a:rPr>
                <a:t>Соглашение о принципах проведения и взаимном признании работ по сертификаци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7840" indent="-177840">
                <a:lnSpc>
                  <a:spcPct val="90000"/>
                </a:lnSpc>
                <a:spcAft>
                  <a:spcPts val="337"/>
                </a:spcAft>
                <a:buClr>
                  <a:srgbClr val="800000"/>
                </a:buClr>
                <a:buFont typeface="Calibri"/>
                <a:buChar char="•"/>
                <a:tabLst>
                  <a:tab algn="l" pos="666720"/>
                  <a:tab algn="l" pos="1333440"/>
                  <a:tab algn="l" pos="2000160"/>
                  <a:tab algn="l" pos="2666880"/>
                  <a:tab algn="l" pos="3333600"/>
                  <a:tab algn="l" pos="4000680"/>
                  <a:tab algn="l" pos="4667400"/>
                  <a:tab algn="l" pos="5334120"/>
                  <a:tab algn="l" pos="6000840"/>
                  <a:tab algn="l" pos="6667560"/>
                  <a:tab algn="l" pos="7334280"/>
                  <a:tab algn="l" pos="8001000"/>
                  <a:tab algn="l" pos="8667720"/>
                  <a:tab algn="l" pos="9334440"/>
                  <a:tab algn="l" pos="10001160"/>
                  <a:tab algn="l" pos="10667880"/>
                </a:tabLst>
              </a:pPr>
              <a:r>
                <a:rPr b="1" i="1" lang="ru-RU" sz="1800" spc="-1" strike="noStrike">
                  <a:solidFill>
                    <a:srgbClr val="800000"/>
                  </a:solidFill>
                  <a:latin typeface="Calibri"/>
                </a:rPr>
                <a:t>Соглашение об  устранении технических барьеров во взаимной  торговле государств-участников СНГ  (проект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Полилиния 16"/>
            <p:cNvSpPr/>
            <p:nvPr/>
          </p:nvSpPr>
          <p:spPr>
            <a:xfrm>
              <a:off x="1558800" y="2746440"/>
              <a:ext cx="1152360" cy="761760"/>
            </a:xfrm>
            <a:prstGeom prst="pie">
              <a:avLst/>
            </a:prstGeom>
            <a:solidFill>
              <a:srgbClr val="00206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86760" bIns="86760" anchor="ctr">
              <a:noAutofit/>
            </a:bodyPr>
            <a:p>
              <a:pPr algn="ctr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Calibri"/>
                </a:rPr>
                <a:t>СНГ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Полилиния 17"/>
            <p:cNvSpPr/>
            <p:nvPr/>
          </p:nvSpPr>
          <p:spPr>
            <a:xfrm>
              <a:off x="2711160" y="4789440"/>
              <a:ext cx="4608720" cy="1952640"/>
            </a:xfrm>
            <a:prstGeom prst="pie">
              <a:avLst/>
            </a:prstGeom>
            <a:solidFill>
              <a:srgbClr val="e9edf4">
                <a:alpha val="90000"/>
              </a:srgbClr>
            </a:solidFill>
            <a:ln w="19080">
              <a:solidFill>
                <a:srgbClr val="002060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126000" tIns="97560" bIns="9756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800000"/>
                </a:buClr>
                <a:buFont typeface="Calibri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Calibri"/>
                </a:rPr>
                <a:t>Постановление Совета Министров Республики Беларусь № 925 от 07.07.2011 </a:t>
              </a:r>
              <a:br>
                <a:rPr sz="1800"/>
              </a:br>
              <a:r>
                <a:rPr b="1" lang="ru-RU" sz="1800" spc="-1" strike="noStrike">
                  <a:solidFill>
                    <a:srgbClr val="002060"/>
                  </a:solidFill>
                  <a:latin typeface="Calibri"/>
                </a:rPr>
                <a:t>(с дополнением Постановление Совета Министров Республики Беларусь № 450 от 16.05.2012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800000"/>
                </a:buClr>
                <a:buFont typeface="Calibri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Calibri"/>
                </a:rPr>
                <a:t>Соглашения о сотрудничестве с нотифицированными органами ЕС (более 30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Полилиния 18"/>
            <p:cNvSpPr/>
            <p:nvPr/>
          </p:nvSpPr>
          <p:spPr>
            <a:xfrm>
              <a:off x="1558800" y="4978440"/>
              <a:ext cx="1152360" cy="761760"/>
            </a:xfrm>
            <a:prstGeom prst="pie">
              <a:avLst/>
            </a:prstGeom>
            <a:solidFill>
              <a:srgbClr val="00206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86760" bIns="86760" anchor="ctr">
              <a:noAutofit/>
            </a:bodyPr>
            <a:p>
              <a:pPr algn="ctr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Calibri"/>
                </a:rPr>
                <a:t>ЕС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8" name="Прямоугольник 10"/>
          <p:cNvSpPr/>
          <p:nvPr/>
        </p:nvSpPr>
        <p:spPr>
          <a:xfrm>
            <a:off x="7319880" y="1052640"/>
            <a:ext cx="27781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2060"/>
                </a:solidFill>
                <a:latin typeface="Calibri"/>
              </a:rPr>
              <a:t>Единый сертификат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2060"/>
                </a:solidFill>
                <a:latin typeface="Calibri"/>
              </a:rPr>
              <a:t>Единая декларация,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2060"/>
                </a:solidFill>
                <a:latin typeface="Calibri"/>
              </a:rPr>
              <a:t>Протокол испытаний ИЛ из Единого реестр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2060"/>
                </a:solidFill>
                <a:latin typeface="Calibri"/>
              </a:rPr>
              <a:t>Взаимное признание аккредитаци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Прямоугольник 8"/>
          <p:cNvSpPr/>
          <p:nvPr/>
        </p:nvSpPr>
        <p:spPr>
          <a:xfrm>
            <a:off x="7319880" y="3068640"/>
            <a:ext cx="262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Взаимное признание работ по сертификац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      </a:t>
            </a:r>
            <a:r>
              <a:rPr b="0" i="1" lang="ru-RU" sz="1400" spc="-1" strike="noStrike">
                <a:solidFill>
                  <a:srgbClr val="800000"/>
                </a:solidFill>
                <a:latin typeface="Arial"/>
                <a:ea typeface="Arial"/>
              </a:rPr>
              <a:t>(в т.ч. на соответствие </a:t>
            </a:r>
            <a:br>
              <a:rPr sz="1400"/>
            </a:br>
            <a:r>
              <a:rPr b="0" i="1" lang="ru-RU" sz="1400" spc="-1" strike="noStrike">
                <a:solidFill>
                  <a:srgbClr val="800000"/>
                </a:solidFill>
                <a:latin typeface="Arial"/>
                <a:ea typeface="Arial"/>
              </a:rPr>
              <a:t>      ТР ТС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Прямоугольник 9"/>
          <p:cNvSpPr/>
          <p:nvPr/>
        </p:nvSpPr>
        <p:spPr>
          <a:xfrm>
            <a:off x="7427880" y="5097600"/>
            <a:ext cx="24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Признание результатов испыта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Диаграмма 2" descr=""/>
          <p:cNvPicPr/>
          <p:nvPr/>
        </p:nvPicPr>
        <p:blipFill>
          <a:blip r:embed="rId1"/>
          <a:stretch/>
        </p:blipFill>
        <p:spPr>
          <a:xfrm>
            <a:off x="1546200" y="1440000"/>
            <a:ext cx="8366040" cy="4510080"/>
          </a:xfrm>
          <a:prstGeom prst="rect">
            <a:avLst/>
          </a:prstGeom>
          <a:ln w="0">
            <a:noFill/>
          </a:ln>
        </p:spPr>
      </p:pic>
      <p:sp>
        <p:nvSpPr>
          <p:cNvPr id="452" name="Прямоугольник 4"/>
          <p:cNvSpPr/>
          <p:nvPr/>
        </p:nvSpPr>
        <p:spPr>
          <a:xfrm>
            <a:off x="1515960" y="192240"/>
            <a:ext cx="839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ПРИЗНАНИЕ РЕЗУЛЬТАТОВ   ОЦЕНКИ   СООТВЕТСТВИЯ </a:t>
            </a:r>
            <a:r>
              <a:rPr b="1" lang="en-US" sz="32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В </a:t>
            </a:r>
            <a:r>
              <a:rPr b="1" lang="en-US" sz="32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С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965376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E454-80A4-434C-9A0A-00BAD1D2F50C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2560680" y="1816200"/>
            <a:ext cx="7234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c1d22"/>
                </a:solidFill>
                <a:latin typeface="Calibri"/>
              </a:rPr>
              <a:t>Национальная система аккредитаци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965196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B697-5C16-4C1A-B818-7BDB7FA2EE18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Заголовок 3"/>
          <p:cNvSpPr/>
          <p:nvPr/>
        </p:nvSpPr>
        <p:spPr>
          <a:xfrm>
            <a:off x="1558800" y="44280"/>
            <a:ext cx="849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9c1d22"/>
                </a:solidFill>
                <a:latin typeface="Calibri"/>
              </a:rPr>
              <a:t>РАЗВИТИЕ НАЦИОНАЛЬНОЙ СИСТЕМЫ АККРЕДИТАЦИИ</a:t>
            </a:r>
            <a:br>
              <a:rPr sz="2400"/>
            </a:br>
            <a:r>
              <a:rPr b="1" lang="ru-RU" sz="2400" spc="-1" strike="noStrike">
                <a:solidFill>
                  <a:srgbClr val="9c1d22"/>
                </a:solidFill>
                <a:latin typeface="Calibri"/>
              </a:rPr>
              <a:t>В ЗАКОНЕ «ОБ ОЦЕНКЕ СООТВЕТСТИЯ ТЕХНИЧЕСКИМ ТРЕБОВАНИЯМ И АККРЕДИТАЦИИ ОРГАНОВ ОБ ОЦЕНКЕ СООТВЕТСТ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Объект 1"/>
          <p:cNvSpPr/>
          <p:nvPr/>
        </p:nvSpPr>
        <p:spPr>
          <a:xfrm>
            <a:off x="1703520" y="1557360"/>
            <a:ext cx="835344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spcBef>
                <a:spcPts val="1199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определены 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цели и принципы аккредитации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на основе международных подходов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1199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указан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 объект аккредитации -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 компетентность юридических лиц в выполнении работ по оценке соответств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1199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приведены способы определения 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области аккредитации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субъектов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1199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изложены 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права и обязанности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заявителей и аккредитованных субъектов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1199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раскрыты 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функции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органа по аккредитации, Совета по аккредитации, технических комитетов по аккредитаци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1199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установлены положения о 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знаке аккредитации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, 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документе об аккредитации, реестре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аккредитованных субъектов, в том числе о 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едином реестре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органов по оценке соответствия ЕАЭС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1199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закреплены основные 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правила осуществления аккредитации, сроки действия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аттестатов аккредитации, 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основания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 приостановления, возобновления либо отмены действ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1800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Объект 2"/>
          <p:cNvSpPr/>
          <p:nvPr/>
        </p:nvSpPr>
        <p:spPr>
          <a:xfrm>
            <a:off x="1703520" y="1341360"/>
            <a:ext cx="842472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353f"/>
                </a:solidFill>
                <a:latin typeface="Arial Narrow"/>
              </a:rPr>
              <a:t>Органов по сертификац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39393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3939"/>
                </a:solidFill>
                <a:latin typeface="Arial Narrow"/>
              </a:rPr>
              <a:t>органов по сертификации продукции, процессов и услуг – </a:t>
            </a:r>
            <a:r>
              <a:rPr b="1" lang="ru-RU" sz="2100" spc="-1" strike="noStrike">
                <a:solidFill>
                  <a:srgbClr val="7f353f"/>
                </a:solidFill>
                <a:latin typeface="Arial Narrow"/>
              </a:rPr>
              <a:t>69</a:t>
            </a:r>
            <a:r>
              <a:rPr b="1" lang="en-US" sz="2100" spc="-1" strike="noStrike">
                <a:solidFill>
                  <a:srgbClr val="7f353f"/>
                </a:solidFill>
                <a:latin typeface="Arial Narrow"/>
              </a:rPr>
              <a:t> </a:t>
            </a:r>
            <a:br>
              <a:rPr sz="2100"/>
            </a:br>
            <a:r>
              <a:rPr b="0" lang="en-US" sz="1700" spc="-1" strike="noStrike">
                <a:solidFill>
                  <a:srgbClr val="393939"/>
                </a:solidFill>
                <a:latin typeface="Arial Narrow"/>
              </a:rPr>
              <a:t>(</a:t>
            </a:r>
            <a:r>
              <a:rPr b="0" lang="ru-RU" sz="1700" spc="-1" strike="noStrike">
                <a:solidFill>
                  <a:srgbClr val="393939"/>
                </a:solidFill>
                <a:latin typeface="Arial Narrow"/>
              </a:rPr>
              <a:t>ГОСТ </a:t>
            </a:r>
            <a:r>
              <a:rPr b="0" lang="en-US" sz="1700" spc="-1" strike="noStrike">
                <a:solidFill>
                  <a:srgbClr val="393939"/>
                </a:solidFill>
                <a:latin typeface="Arial Narrow"/>
              </a:rPr>
              <a:t>ISO/IEC 17065-2013)</a:t>
            </a:r>
            <a:r>
              <a:rPr b="0" lang="ru-RU" sz="1700" spc="-1" strike="noStrike">
                <a:solidFill>
                  <a:srgbClr val="393939"/>
                </a:solidFill>
                <a:latin typeface="Arial Narrow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39393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3939"/>
                </a:solidFill>
                <a:latin typeface="Arial Narrow"/>
              </a:rPr>
              <a:t>органов по сертификации систем – </a:t>
            </a:r>
            <a:r>
              <a:rPr b="1" lang="ru-RU" sz="2100" spc="-1" strike="noStrike">
                <a:solidFill>
                  <a:srgbClr val="7f353f"/>
                </a:solidFill>
                <a:latin typeface="Arial Narrow"/>
              </a:rPr>
              <a:t>37</a:t>
            </a:r>
            <a:r>
              <a:rPr b="1" lang="en-US" sz="2100" spc="-1" strike="noStrike">
                <a:solidFill>
                  <a:srgbClr val="7f353f"/>
                </a:solidFill>
                <a:latin typeface="Arial Narrow"/>
              </a:rPr>
              <a:t> </a:t>
            </a:r>
            <a:r>
              <a:rPr b="0" lang="en-US" sz="1700" spc="-1" strike="noStrike">
                <a:solidFill>
                  <a:srgbClr val="393939"/>
                </a:solidFill>
                <a:latin typeface="Arial Narrow"/>
              </a:rPr>
              <a:t>(</a:t>
            </a:r>
            <a:r>
              <a:rPr b="0" lang="ru-RU" sz="1700" spc="-1" strike="noStrike">
                <a:solidFill>
                  <a:srgbClr val="393939"/>
                </a:solidFill>
                <a:latin typeface="Arial Narrow"/>
              </a:rPr>
              <a:t>ГОСТ </a:t>
            </a:r>
            <a:r>
              <a:rPr b="0" lang="en-US" sz="1700" spc="-1" strike="noStrike">
                <a:solidFill>
                  <a:srgbClr val="393939"/>
                </a:solidFill>
                <a:latin typeface="Arial Narrow"/>
              </a:rPr>
              <a:t>ISO/IEC 17021-2013)</a:t>
            </a:r>
            <a:r>
              <a:rPr b="0" lang="ru-RU" sz="1700" spc="-1" strike="noStrike">
                <a:solidFill>
                  <a:srgbClr val="393939"/>
                </a:solidFill>
                <a:latin typeface="Arial Narrow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39393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3939"/>
                </a:solidFill>
                <a:latin typeface="Arial Narrow"/>
              </a:rPr>
              <a:t>органов по сертификации персонала – </a:t>
            </a:r>
            <a:r>
              <a:rPr b="1" lang="ru-RU" sz="2100" spc="-1" strike="noStrike">
                <a:solidFill>
                  <a:srgbClr val="7f353f"/>
                </a:solidFill>
                <a:latin typeface="Arial Narrow"/>
              </a:rPr>
              <a:t>6</a:t>
            </a:r>
            <a:r>
              <a:rPr b="1" lang="en-US" sz="2100" spc="-1" strike="noStrike">
                <a:solidFill>
                  <a:srgbClr val="7f353f"/>
                </a:solidFill>
                <a:latin typeface="Arial Narrow"/>
              </a:rPr>
              <a:t> </a:t>
            </a:r>
            <a:r>
              <a:rPr b="0" lang="en-US" sz="1700" spc="-1" strike="noStrike">
                <a:solidFill>
                  <a:srgbClr val="393939"/>
                </a:solidFill>
                <a:latin typeface="Arial Narrow"/>
              </a:rPr>
              <a:t>(</a:t>
            </a:r>
            <a:r>
              <a:rPr b="0" lang="ru-RU" sz="1700" spc="-1" strike="noStrike">
                <a:solidFill>
                  <a:srgbClr val="393939"/>
                </a:solidFill>
                <a:latin typeface="Arial Narrow"/>
              </a:rPr>
              <a:t>ГОСТ </a:t>
            </a:r>
            <a:r>
              <a:rPr b="0" lang="en-US" sz="1700" spc="-1" strike="noStrike">
                <a:solidFill>
                  <a:srgbClr val="393939"/>
                </a:solidFill>
                <a:latin typeface="Arial Narrow"/>
              </a:rPr>
              <a:t>ISO/IEC 17024-20</a:t>
            </a:r>
            <a:r>
              <a:rPr b="0" lang="ru-RU" sz="1700" spc="-1" strike="noStrike">
                <a:solidFill>
                  <a:srgbClr val="393939"/>
                </a:solidFill>
                <a:latin typeface="Arial Narrow"/>
              </a:rPr>
              <a:t>14</a:t>
            </a:r>
            <a:r>
              <a:rPr b="0" lang="en-US" sz="1700" spc="-1" strike="noStrike">
                <a:solidFill>
                  <a:srgbClr val="393939"/>
                </a:solidFill>
                <a:latin typeface="Arial Narrow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353f"/>
                </a:solidFill>
                <a:latin typeface="Arial Narrow"/>
              </a:rPr>
              <a:t>Лабораторий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39393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3939"/>
                </a:solidFill>
                <a:latin typeface="Arial Narrow"/>
              </a:rPr>
              <a:t>испытательных лабораторий – </a:t>
            </a:r>
            <a:r>
              <a:rPr b="1" lang="ru-RU" sz="2100" spc="-1" strike="noStrike">
                <a:solidFill>
                  <a:srgbClr val="7f353f"/>
                </a:solidFill>
                <a:latin typeface="Arial Narrow"/>
              </a:rPr>
              <a:t>2 </a:t>
            </a:r>
            <a:r>
              <a:rPr b="1" lang="en-US" sz="2100" spc="-1" strike="noStrike">
                <a:solidFill>
                  <a:srgbClr val="7f353f"/>
                </a:solidFill>
                <a:latin typeface="Arial Narrow"/>
              </a:rPr>
              <a:t>771</a:t>
            </a:r>
            <a:r>
              <a:rPr b="1" lang="ru-RU" sz="2100" spc="-1" strike="noStrike">
                <a:solidFill>
                  <a:srgbClr val="7f353f"/>
                </a:solidFill>
                <a:latin typeface="Arial Narrow"/>
              </a:rPr>
              <a:t> </a:t>
            </a:r>
            <a:r>
              <a:rPr b="0" lang="ru-RU" sz="1700" spc="-1" strike="noStrike">
                <a:solidFill>
                  <a:srgbClr val="393939"/>
                </a:solidFill>
                <a:latin typeface="Arial Narrow"/>
              </a:rPr>
              <a:t>(СТБ </a:t>
            </a:r>
            <a:r>
              <a:rPr b="0" lang="en-US" sz="1700" spc="-1" strike="noStrike">
                <a:solidFill>
                  <a:srgbClr val="393939"/>
                </a:solidFill>
                <a:latin typeface="Arial Narrow"/>
              </a:rPr>
              <a:t>ISO/IEC 17025-2007</a:t>
            </a:r>
            <a:r>
              <a:rPr b="0" lang="ru-RU" sz="1700" spc="-1" strike="noStrike">
                <a:solidFill>
                  <a:srgbClr val="393939"/>
                </a:solidFill>
                <a:latin typeface="Arial Narrow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39393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3939"/>
                </a:solidFill>
                <a:latin typeface="Arial Narrow"/>
              </a:rPr>
              <a:t>калибровочных лабораторий – </a:t>
            </a:r>
            <a:r>
              <a:rPr b="1" lang="en-US" sz="2100" spc="-1" strike="noStrike">
                <a:solidFill>
                  <a:srgbClr val="7f353f"/>
                </a:solidFill>
                <a:latin typeface="Arial Narrow"/>
              </a:rPr>
              <a:t>49</a:t>
            </a:r>
            <a:r>
              <a:rPr b="1" lang="ru-RU" sz="2100" spc="-1" strike="noStrike">
                <a:solidFill>
                  <a:srgbClr val="7f353f"/>
                </a:solidFill>
                <a:latin typeface="Arial Narrow"/>
              </a:rPr>
              <a:t> </a:t>
            </a:r>
            <a:r>
              <a:rPr b="0" lang="ru-RU" sz="1700" spc="-1" strike="noStrike">
                <a:solidFill>
                  <a:srgbClr val="393939"/>
                </a:solidFill>
                <a:latin typeface="Arial Narrow"/>
              </a:rPr>
              <a:t>(СТБ </a:t>
            </a:r>
            <a:r>
              <a:rPr b="0" lang="en-US" sz="1700" spc="-1" strike="noStrike">
                <a:solidFill>
                  <a:srgbClr val="393939"/>
                </a:solidFill>
                <a:latin typeface="Arial Narrow"/>
              </a:rPr>
              <a:t>ISO/IEC 17025-2007</a:t>
            </a:r>
            <a:r>
              <a:rPr b="0" lang="ru-RU" sz="1700" spc="-1" strike="noStrike">
                <a:solidFill>
                  <a:srgbClr val="393939"/>
                </a:solidFill>
                <a:latin typeface="Arial Narrow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39393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3939"/>
                </a:solidFill>
                <a:latin typeface="Arial Narrow"/>
              </a:rPr>
              <a:t>поверочных лабораторий – </a:t>
            </a:r>
            <a:r>
              <a:rPr b="1" lang="en-US" sz="2100" spc="-1" strike="noStrike">
                <a:solidFill>
                  <a:srgbClr val="7f353f"/>
                </a:solidFill>
                <a:latin typeface="Arial Narrow"/>
              </a:rPr>
              <a:t>198</a:t>
            </a:r>
            <a:r>
              <a:rPr b="1" lang="ru-RU" sz="2100" spc="-1" strike="noStrike">
                <a:solidFill>
                  <a:srgbClr val="7f353f"/>
                </a:solidFill>
                <a:latin typeface="Arial Narrow"/>
              </a:rPr>
              <a:t> </a:t>
            </a:r>
            <a:r>
              <a:rPr b="0" lang="ru-RU" sz="1700" spc="-1" strike="noStrike">
                <a:solidFill>
                  <a:srgbClr val="393939"/>
                </a:solidFill>
                <a:latin typeface="Arial Narrow"/>
              </a:rPr>
              <a:t>(СТБ </a:t>
            </a:r>
            <a:r>
              <a:rPr b="0" lang="en-US" sz="1700" spc="-1" strike="noStrike">
                <a:solidFill>
                  <a:srgbClr val="393939"/>
                </a:solidFill>
                <a:latin typeface="Arial Narrow"/>
              </a:rPr>
              <a:t>ISO/IEC 17025-2007</a:t>
            </a:r>
            <a:r>
              <a:rPr b="0" lang="ru-RU" sz="1700" spc="-1" strike="noStrike">
                <a:solidFill>
                  <a:srgbClr val="393939"/>
                </a:solidFill>
                <a:latin typeface="Arial Narrow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353f"/>
                </a:solidFill>
                <a:latin typeface="Arial Narrow"/>
              </a:rPr>
              <a:t>Инспекционных органов – 1 </a:t>
            </a:r>
            <a:r>
              <a:rPr b="0" lang="ru-RU" sz="1700" spc="-1" strike="noStrike">
                <a:solidFill>
                  <a:srgbClr val="393939"/>
                </a:solidFill>
                <a:latin typeface="Arial Narrow"/>
              </a:rPr>
              <a:t>(ГОСТ </a:t>
            </a:r>
            <a:r>
              <a:rPr b="0" lang="en-US" sz="1700" spc="-1" strike="noStrike">
                <a:solidFill>
                  <a:srgbClr val="393939"/>
                </a:solidFill>
                <a:latin typeface="Arial Narrow"/>
              </a:rPr>
              <a:t>ISO/IEC 17020-2013</a:t>
            </a:r>
            <a:r>
              <a:rPr b="0" lang="ru-RU" sz="1700" spc="-1" strike="noStrike">
                <a:solidFill>
                  <a:srgbClr val="393939"/>
                </a:solidFill>
                <a:latin typeface="Arial Narrow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353f"/>
                </a:solidFill>
                <a:latin typeface="Arial Narrow"/>
              </a:rPr>
              <a:t>Экспертов по аккредитации – </a:t>
            </a:r>
            <a:r>
              <a:rPr b="1" lang="en-US" sz="2000" spc="-1" strike="noStrike">
                <a:solidFill>
                  <a:srgbClr val="7f353f"/>
                </a:solidFill>
                <a:latin typeface="Arial Narrow"/>
              </a:rPr>
              <a:t>775</a:t>
            </a:r>
            <a:r>
              <a:rPr b="1" lang="ru-RU" sz="2000" spc="-1" strike="noStrike">
                <a:solidFill>
                  <a:srgbClr val="7f353f"/>
                </a:solidFill>
                <a:latin typeface="Arial Narro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39393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3939"/>
                </a:solidFill>
                <a:latin typeface="Arial Narrow"/>
              </a:rPr>
              <a:t>штатных – </a:t>
            </a:r>
            <a:r>
              <a:rPr b="1" lang="en-US" sz="2100" spc="-1" strike="noStrike">
                <a:solidFill>
                  <a:srgbClr val="7f353f"/>
                </a:solidFill>
                <a:latin typeface="Arial Narrow"/>
              </a:rPr>
              <a:t>7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9393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3939"/>
                </a:solidFill>
                <a:latin typeface="Arial Narrow"/>
              </a:rPr>
              <a:t>привлекаемых (технических) –  </a:t>
            </a:r>
            <a:r>
              <a:rPr b="1" lang="ru-RU" sz="2100" spc="-1" strike="noStrike">
                <a:solidFill>
                  <a:srgbClr val="7f353f"/>
                </a:solidFill>
                <a:latin typeface="Arial Narrow"/>
              </a:rPr>
              <a:t>6</a:t>
            </a:r>
            <a:r>
              <a:rPr b="1" lang="en-US" sz="2100" spc="-1" strike="noStrike">
                <a:solidFill>
                  <a:srgbClr val="7f353f"/>
                </a:solidFill>
                <a:latin typeface="Arial Narrow"/>
              </a:rPr>
              <a:t>99</a:t>
            </a:r>
            <a:r>
              <a:rPr b="0" lang="ru-RU" sz="1800" spc="-1" strike="noStrike">
                <a:solidFill>
                  <a:srgbClr val="393939"/>
                </a:solidFill>
                <a:latin typeface="Arial Narrow"/>
              </a:rPr>
              <a:t>, из ни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7f353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7f353f"/>
                </a:solidFill>
                <a:latin typeface="Arial Narrow"/>
              </a:rPr>
              <a:t>500</a:t>
            </a:r>
            <a:r>
              <a:rPr b="0" lang="ru-RU" sz="1500" spc="-1" strike="noStrike">
                <a:solidFill>
                  <a:srgbClr val="393939"/>
                </a:solidFill>
                <a:latin typeface="Arial Narrow"/>
              </a:rPr>
              <a:t> – для оценки лабораторий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7f353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7f353f"/>
                </a:solidFill>
                <a:latin typeface="Arial Narrow"/>
              </a:rPr>
              <a:t>1</a:t>
            </a:r>
            <a:r>
              <a:rPr b="1" lang="en-US" sz="2100" spc="-1" strike="noStrike">
                <a:solidFill>
                  <a:srgbClr val="7f353f"/>
                </a:solidFill>
                <a:latin typeface="Arial Narrow"/>
              </a:rPr>
              <a:t>99</a:t>
            </a:r>
            <a:r>
              <a:rPr b="0" lang="ru-RU" sz="1500" spc="-1" strike="noStrike">
                <a:solidFill>
                  <a:srgbClr val="393939"/>
                </a:solidFill>
                <a:latin typeface="Arial Narrow"/>
              </a:rPr>
              <a:t> – для оценки органов по сертификаци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Прямоугольник 5"/>
          <p:cNvSpPr/>
          <p:nvPr/>
        </p:nvSpPr>
        <p:spPr>
          <a:xfrm>
            <a:off x="3228120" y="334800"/>
            <a:ext cx="493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РЕЕСТР НСА РБ ВКЛЮЧА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965196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2974-2C26-4EEB-B5F3-26E761371AF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Объект 4"/>
          <p:cNvSpPr/>
          <p:nvPr/>
        </p:nvSpPr>
        <p:spPr>
          <a:xfrm>
            <a:off x="4800600" y="1413000"/>
            <a:ext cx="5076720" cy="1655640"/>
          </a:xfrm>
          <a:prstGeom prst="rect">
            <a:avLst/>
          </a:prstGeom>
          <a:noFill/>
          <a:ln w="28440">
            <a:solidFill>
              <a:srgbClr val="aa475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93939"/>
                </a:solidFill>
                <a:latin typeface="Arial Narrow"/>
              </a:rPr>
              <a:t>Аккредитованные органы по оценке соответствия</a:t>
            </a:r>
            <a:r>
              <a:rPr b="0" lang="ru-RU" sz="1900" spc="-1" strike="noStrike">
                <a:solidFill>
                  <a:srgbClr val="393939"/>
                </a:solidFill>
                <a:latin typeface="Arial Narrow"/>
              </a:rPr>
              <a:t>, осуществляющие работы по оценке соответствия установленным техническим регламентом Союза требованиям, должны быть включены в </a:t>
            </a:r>
            <a:r>
              <a:rPr b="1" lang="ru-RU" sz="1900" spc="-1" strike="noStrike">
                <a:solidFill>
                  <a:srgbClr val="393939"/>
                </a:solidFill>
                <a:latin typeface="Arial Narrow"/>
              </a:rPr>
              <a:t>ЕДИНЫЙ РЕЕСТР </a:t>
            </a:r>
            <a:r>
              <a:rPr b="0" lang="ru-RU" sz="1900" spc="-1" strike="noStrike">
                <a:solidFill>
                  <a:srgbClr val="393939"/>
                </a:solidFill>
                <a:latin typeface="Arial Narrow"/>
              </a:rPr>
              <a:t>органов по оценке соответствия Союз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Пятиугольник 9"/>
          <p:cNvSpPr/>
          <p:nvPr/>
        </p:nvSpPr>
        <p:spPr>
          <a:xfrm>
            <a:off x="1631880" y="1455840"/>
            <a:ext cx="3024360" cy="1008720"/>
          </a:xfrm>
          <a:custGeom>
            <a:avLst/>
            <a:gdLst>
              <a:gd name="textAreaLeft" fmla="*/ 0 w 3024360"/>
              <a:gd name="textAreaRight" fmla="*/ 3024720 w 3024360"/>
              <a:gd name="textAreaTop" fmla="*/ 0 h 1008720"/>
              <a:gd name="textAreaBottom" fmla="*/ 1008720 h 10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77" y="0"/>
                </a:lnTo>
                <a:lnTo>
                  <a:pt x="21600" y="10800"/>
                </a:lnTo>
                <a:lnTo>
                  <a:pt x="1687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aeb7"/>
              </a:gs>
              <a:gs pos="100000">
                <a:srgbClr val="ffe8ea"/>
              </a:gs>
            </a:gsLst>
            <a:lin ang="16200000"/>
          </a:gradFill>
          <a:ln w="9360">
            <a:solidFill>
              <a:srgbClr val="c26d7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 Narrow"/>
              </a:rPr>
              <a:t>п.5 Протокола о техническом регулировании в рамках ЕАЭ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3" name="Штриховая стрелка вправо 10"/>
          <p:cNvGrpSpPr/>
          <p:nvPr/>
        </p:nvGrpSpPr>
        <p:grpSpPr>
          <a:xfrm>
            <a:off x="6754680" y="3035160"/>
            <a:ext cx="541440" cy="615960"/>
            <a:chOff x="6754680" y="3035160"/>
            <a:chExt cx="541440" cy="615960"/>
          </a:xfrm>
        </p:grpSpPr>
        <p:pic>
          <p:nvPicPr>
            <p:cNvPr id="464" name="Штриховая стрелка вправо 10" descr=""/>
            <p:cNvPicPr/>
            <p:nvPr/>
          </p:nvPicPr>
          <p:blipFill>
            <a:blip r:embed="rId1"/>
            <a:stretch/>
          </p:blipFill>
          <p:spPr>
            <a:xfrm>
              <a:off x="6754680" y="3035160"/>
              <a:ext cx="5414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 rot="5400000">
              <a:off x="6863400" y="3191400"/>
              <a:ext cx="3286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6" name="Picture 2" descr=""/>
          <p:cNvPicPr/>
          <p:nvPr/>
        </p:nvPicPr>
        <p:blipFill>
          <a:blip r:embed="rId2"/>
          <a:stretch/>
        </p:blipFill>
        <p:spPr>
          <a:xfrm>
            <a:off x="1631880" y="3573360"/>
            <a:ext cx="8280360" cy="303552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12"/>
          <p:cNvSpPr/>
          <p:nvPr/>
        </p:nvSpPr>
        <p:spPr>
          <a:xfrm>
            <a:off x="3432240" y="4551480"/>
            <a:ext cx="1439640" cy="1368360"/>
          </a:xfrm>
          <a:prstGeom prst="rect">
            <a:avLst/>
          </a:prstGeom>
          <a:noFill/>
          <a:ln w="38160">
            <a:solidFill>
              <a:srgbClr val="be060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Прямоугольник 13"/>
          <p:cNvSpPr/>
          <p:nvPr/>
        </p:nvSpPr>
        <p:spPr>
          <a:xfrm>
            <a:off x="3636360" y="395280"/>
            <a:ext cx="40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ЕДИНЫЙ РЕЕСТР ЕАЭ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965916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B96A-7366-4D03-A806-A52C8E6D0691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Box 27"/>
          <p:cNvSpPr/>
          <p:nvPr/>
        </p:nvSpPr>
        <p:spPr>
          <a:xfrm>
            <a:off x="5840280" y="1560600"/>
            <a:ext cx="415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ТОРГОВЫЕ ПАРТНЕРЫ ДРУГИХ РЕГИОНОВ МИ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Рисунок 28" descr=""/>
          <p:cNvPicPr/>
          <p:nvPr/>
        </p:nvPicPr>
        <p:blipFill>
          <a:blip r:embed="rId1"/>
          <a:srcRect l="2991" t="2628" r="6085" b="2688"/>
          <a:stretch/>
        </p:blipFill>
        <p:spPr>
          <a:xfrm>
            <a:off x="6013440" y="3313080"/>
            <a:ext cx="934920" cy="836640"/>
          </a:xfrm>
          <a:prstGeom prst="rect">
            <a:avLst/>
          </a:prstGeom>
          <a:ln w="0">
            <a:noFill/>
          </a:ln>
        </p:spPr>
      </p:pic>
      <p:pic>
        <p:nvPicPr>
          <p:cNvPr id="472" name="Рисунок 29" descr=""/>
          <p:cNvPicPr/>
          <p:nvPr/>
        </p:nvPicPr>
        <p:blipFill>
          <a:blip r:embed="rId2"/>
          <a:srcRect l="0" t="0" r="219" b="9043"/>
          <a:stretch/>
        </p:blipFill>
        <p:spPr>
          <a:xfrm>
            <a:off x="5832360" y="2406600"/>
            <a:ext cx="1185840" cy="774720"/>
          </a:xfrm>
          <a:prstGeom prst="rect">
            <a:avLst/>
          </a:prstGeom>
          <a:ln w="0">
            <a:noFill/>
          </a:ln>
        </p:spPr>
      </p:pic>
      <p:sp>
        <p:nvSpPr>
          <p:cNvPr id="473" name="Прямоугольник 30"/>
          <p:cNvSpPr/>
          <p:nvPr/>
        </p:nvSpPr>
        <p:spPr>
          <a:xfrm>
            <a:off x="1558800" y="1557360"/>
            <a:ext cx="4165560" cy="4751280"/>
          </a:xfrm>
          <a:prstGeom prst="rect">
            <a:avLst/>
          </a:prstGeom>
          <a:noFill/>
          <a:ln w="12600">
            <a:solidFill>
              <a:srgbClr val="9c1d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Box 31"/>
          <p:cNvSpPr/>
          <p:nvPr/>
        </p:nvSpPr>
        <p:spPr>
          <a:xfrm>
            <a:off x="2157480" y="1560600"/>
            <a:ext cx="32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ЕВРОПЕЙСКИЙ СОЮ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5" name="Группа 32"/>
          <p:cNvGrpSpPr/>
          <p:nvPr/>
        </p:nvGrpSpPr>
        <p:grpSpPr>
          <a:xfrm>
            <a:off x="2994120" y="3046320"/>
            <a:ext cx="2519280" cy="3191040"/>
            <a:chOff x="2994120" y="3046320"/>
            <a:chExt cx="2519280" cy="3191040"/>
          </a:xfrm>
        </p:grpSpPr>
        <p:sp>
          <p:nvSpPr>
            <p:cNvPr id="476" name="Выноска со стрелкой вправо 33"/>
            <p:cNvSpPr/>
            <p:nvPr/>
          </p:nvSpPr>
          <p:spPr>
            <a:xfrm>
              <a:off x="3133800" y="3046320"/>
              <a:ext cx="2379600" cy="3191040"/>
            </a:xfrm>
            <a:prstGeom prst="rightArrowCallout">
              <a:avLst>
                <a:gd name="adj1" fmla="val 33615"/>
                <a:gd name="adj2" fmla="val 23647"/>
                <a:gd name="adj3" fmla="val 9764"/>
                <a:gd name="adj4" fmla="val 85287"/>
              </a:avLst>
            </a:prstGeom>
            <a:solidFill>
              <a:srgbClr val="fef1e6"/>
            </a:solidFill>
            <a:ln w="9360">
              <a:solidFill>
                <a:srgbClr val="9c1d2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TextBox 34"/>
            <p:cNvSpPr/>
            <p:nvPr/>
          </p:nvSpPr>
          <p:spPr>
            <a:xfrm>
              <a:off x="2994120" y="3195360"/>
              <a:ext cx="2386080" cy="178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entury Gothic"/>
                </a:rPr>
                <a:t>СОГЛАШЕНИЕ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двустороннее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о взаимном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признании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аккредитаци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8" name="Picture 17" descr=""/>
          <p:cNvPicPr/>
          <p:nvPr/>
        </p:nvPicPr>
        <p:blipFill>
          <a:blip r:embed="rId3"/>
          <a:srcRect l="0" t="0" r="18952" b="0"/>
          <a:stretch/>
        </p:blipFill>
        <p:spPr>
          <a:xfrm>
            <a:off x="1849320" y="3865680"/>
            <a:ext cx="693720" cy="7398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18"/>
          <p:cNvSpPr/>
          <p:nvPr/>
        </p:nvSpPr>
        <p:spPr>
          <a:xfrm>
            <a:off x="1577880" y="5155200"/>
            <a:ext cx="12049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й орган по аккредитации РБ  ассоциированный член ЕА с 2011 год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Box 37"/>
          <p:cNvSpPr/>
          <p:nvPr/>
        </p:nvSpPr>
        <p:spPr>
          <a:xfrm>
            <a:off x="3235320" y="5300640"/>
            <a:ext cx="18781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Взаимное признание протоколов испытаний и сертификатов соответствия между ЕС и РБ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TextBox 38" descr=""/>
          <p:cNvPicPr/>
          <p:nvPr/>
        </p:nvPicPr>
        <p:blipFill>
          <a:blip r:embed="rId4"/>
          <a:stretch/>
        </p:blipFill>
        <p:spPr>
          <a:xfrm>
            <a:off x="2706840" y="2419200"/>
            <a:ext cx="572760" cy="3329280"/>
          </a:xfrm>
          <a:prstGeom prst="rect">
            <a:avLst/>
          </a:prstGeom>
          <a:ln w="0">
            <a:noFill/>
          </a:ln>
        </p:spPr>
      </p:pic>
      <p:pic>
        <p:nvPicPr>
          <p:cNvPr id="482" name="Рисунок 39" descr="C:\Users\malgina\Downloads\image001.jpg"/>
          <p:cNvPicPr/>
          <p:nvPr/>
        </p:nvPicPr>
        <p:blipFill>
          <a:blip r:embed="rId5"/>
          <a:stretch/>
        </p:blipFill>
        <p:spPr>
          <a:xfrm>
            <a:off x="1730520" y="2511360"/>
            <a:ext cx="898560" cy="917640"/>
          </a:xfrm>
          <a:prstGeom prst="rect">
            <a:avLst/>
          </a:prstGeom>
          <a:ln w="0">
            <a:noFill/>
          </a:ln>
        </p:spPr>
      </p:pic>
      <p:sp>
        <p:nvSpPr>
          <p:cNvPr id="483" name="Прямоугольник 40"/>
          <p:cNvSpPr/>
          <p:nvPr/>
        </p:nvSpPr>
        <p:spPr>
          <a:xfrm>
            <a:off x="5805360" y="1557360"/>
            <a:ext cx="4165560" cy="4751280"/>
          </a:xfrm>
          <a:prstGeom prst="rect">
            <a:avLst/>
          </a:prstGeom>
          <a:noFill/>
          <a:ln w="12600">
            <a:solidFill>
              <a:srgbClr val="9c1d2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4" name="Группа 41"/>
          <p:cNvGrpSpPr/>
          <p:nvPr/>
        </p:nvGrpSpPr>
        <p:grpSpPr>
          <a:xfrm>
            <a:off x="7238880" y="2511360"/>
            <a:ext cx="1650960" cy="3191040"/>
            <a:chOff x="7238880" y="2511360"/>
            <a:chExt cx="1650960" cy="3191040"/>
          </a:xfrm>
        </p:grpSpPr>
        <p:sp>
          <p:nvSpPr>
            <p:cNvPr id="485" name="Выноска со стрелкой вправо 42"/>
            <p:cNvSpPr/>
            <p:nvPr/>
          </p:nvSpPr>
          <p:spPr>
            <a:xfrm>
              <a:off x="7330680" y="2511360"/>
              <a:ext cx="1559160" cy="3191040"/>
            </a:xfrm>
            <a:prstGeom prst="rightArrowCallout">
              <a:avLst>
                <a:gd name="adj1" fmla="val 51284"/>
                <a:gd name="adj2" fmla="val 36072"/>
                <a:gd name="adj3" fmla="val 9764"/>
                <a:gd name="adj4" fmla="val 85287"/>
              </a:avLst>
            </a:prstGeom>
            <a:solidFill>
              <a:srgbClr val="fef1e6"/>
            </a:solidFill>
            <a:ln w="9360">
              <a:solidFill>
                <a:srgbClr val="9c1d2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TextBox 43"/>
            <p:cNvSpPr/>
            <p:nvPr/>
          </p:nvSpPr>
          <p:spPr>
            <a:xfrm>
              <a:off x="7238880" y="2981160"/>
              <a:ext cx="1563840" cy="178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entury Gothic"/>
                </a:rPr>
                <a:t>СОГЛАШЕНИЕ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многостороннее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о взаимном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признании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аккредитаци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7" name="Picture 17" descr=""/>
          <p:cNvPicPr/>
          <p:nvPr/>
        </p:nvPicPr>
        <p:blipFill>
          <a:blip r:embed="rId6"/>
          <a:srcRect l="0" t="0" r="18952" b="0"/>
          <a:stretch/>
        </p:blipFill>
        <p:spPr>
          <a:xfrm>
            <a:off x="6078600" y="4460760"/>
            <a:ext cx="693720" cy="73836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18"/>
          <p:cNvSpPr/>
          <p:nvPr/>
        </p:nvSpPr>
        <p:spPr>
          <a:xfrm>
            <a:off x="5900760" y="5234760"/>
            <a:ext cx="12603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й орган по аккредитации РБ ассоциированный член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LAC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с 2011 год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Box 46"/>
          <p:cNvSpPr/>
          <p:nvPr/>
        </p:nvSpPr>
        <p:spPr>
          <a:xfrm>
            <a:off x="8889840" y="3492360"/>
            <a:ext cx="100980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Взаимное признание протоколов испытаний и сертификатов соответствия между членами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AF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LAC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на глобальном уровн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TextBox 47" descr=""/>
          <p:cNvPicPr/>
          <p:nvPr/>
        </p:nvPicPr>
        <p:blipFill>
          <a:blip r:embed="rId7"/>
          <a:stretch/>
        </p:blipFill>
        <p:spPr>
          <a:xfrm>
            <a:off x="6954840" y="2419200"/>
            <a:ext cx="573120" cy="3329280"/>
          </a:xfrm>
          <a:prstGeom prst="rect">
            <a:avLst/>
          </a:prstGeom>
          <a:ln w="0">
            <a:noFill/>
          </a:ln>
        </p:spPr>
      </p:pic>
      <p:sp>
        <p:nvSpPr>
          <p:cNvPr id="491" name="Стрелка вниз 48"/>
          <p:cNvSpPr/>
          <p:nvPr/>
        </p:nvSpPr>
        <p:spPr>
          <a:xfrm>
            <a:off x="4062240" y="5022720"/>
            <a:ext cx="223920" cy="241560"/>
          </a:xfrm>
          <a:prstGeom prst="downArrow">
            <a:avLst>
              <a:gd name="adj1" fmla="val 50000"/>
              <a:gd name="adj2" fmla="val 50033"/>
            </a:avLst>
          </a:prstGeom>
          <a:solidFill>
            <a:srgbClr val="7f3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Box 49"/>
          <p:cNvSpPr/>
          <p:nvPr/>
        </p:nvSpPr>
        <p:spPr>
          <a:xfrm>
            <a:off x="3143160" y="2082960"/>
            <a:ext cx="2438640" cy="824040"/>
          </a:xfrm>
          <a:prstGeom prst="rect">
            <a:avLst/>
          </a:prstGeom>
          <a:solidFill>
            <a:srgbClr val="c9f3d0"/>
          </a:solidFill>
          <a:ln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93939"/>
                </a:solidFill>
                <a:latin typeface="Arial Narrow"/>
              </a:rPr>
              <a:t>Предварительная оценка </a:t>
            </a:r>
            <a:r>
              <a:rPr b="0" lang="ru-RU" sz="1200" spc="-1" strike="noStrike">
                <a:solidFill>
                  <a:srgbClr val="393939"/>
                </a:solidFill>
                <a:latin typeface="Arial"/>
                <a:ea typeface="Arial"/>
              </a:rPr>
              <a:t>системы аккредитации для целей подписания соглашения – </a:t>
            </a:r>
            <a:r>
              <a:rPr b="1" lang="ru-RU" sz="1200" spc="-1" strike="noStrike">
                <a:solidFill>
                  <a:srgbClr val="393939"/>
                </a:solidFill>
                <a:latin typeface="Arial"/>
                <a:ea typeface="Arial"/>
              </a:rPr>
              <a:t>декабрь 2015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Заголовок 1"/>
          <p:cNvSpPr/>
          <p:nvPr/>
        </p:nvSpPr>
        <p:spPr>
          <a:xfrm>
            <a:off x="1631880" y="260280"/>
            <a:ext cx="8229600" cy="94608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СОЗДАНИЕ УСЛОВИЙ ДЛЯ ПРИЗН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В ЕС И НА ГЛОБАЛЬНОМ УРОВ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207880" y="155700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c1d22"/>
                </a:solidFill>
                <a:latin typeface="Calibri"/>
              </a:rPr>
              <a:t>Государственный надзор</a:t>
            </a:r>
            <a:endParaRPr b="0" lang="en-US" sz="60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965196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C483-6491-4CE8-A7EB-C8C99DED7FAF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1558800" y="290520"/>
            <a:ext cx="8282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c1d22"/>
                </a:solidFill>
                <a:latin typeface="Calibri"/>
              </a:rPr>
              <a:t>РЕФОРМИРОВАНИЕ ЗАКОНОДАТЕЛЬНОЙ БАЗЫ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c1d22"/>
                </a:solidFill>
                <a:latin typeface="Calibri"/>
              </a:rPr>
              <a:t>РЕСПУБЛИКИ БЕЛАРУС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Text Box 2"/>
          <p:cNvGrpSpPr/>
          <p:nvPr/>
        </p:nvGrpSpPr>
        <p:grpSpPr>
          <a:xfrm>
            <a:off x="2438280" y="2371680"/>
            <a:ext cx="7143840" cy="1073160"/>
            <a:chOff x="2438280" y="2371680"/>
            <a:chExt cx="7143840" cy="1073160"/>
          </a:xfrm>
        </p:grpSpPr>
        <p:pic>
          <p:nvPicPr>
            <p:cNvPr id="192" name="Text Box 2" descr=""/>
            <p:cNvPicPr/>
            <p:nvPr/>
          </p:nvPicPr>
          <p:blipFill>
            <a:blip r:embed="rId1"/>
            <a:stretch/>
          </p:blipFill>
          <p:spPr>
            <a:xfrm>
              <a:off x="2438280" y="2371680"/>
              <a:ext cx="71438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514600" y="2449440"/>
              <a:ext cx="69850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66"/>
                  </a:solidFill>
                  <a:latin typeface="Arial"/>
                </a:rPr>
                <a:t>Закон  Республики Беларусь </a:t>
              </a:r>
              <a:br>
                <a:rPr sz="1700"/>
              </a:br>
              <a:r>
                <a:rPr b="1" lang="ru-RU" sz="1700" spc="-1" strike="noStrike">
                  <a:solidFill>
                    <a:srgbClr val="003366"/>
                  </a:solidFill>
                  <a:latin typeface="Arial"/>
                </a:rPr>
                <a:t>«О техническом нормировании и стандартизации»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700" spc="-1" strike="noStrike">
                  <a:solidFill>
                    <a:srgbClr val="800000"/>
                  </a:solidFill>
                  <a:latin typeface="Arial"/>
                </a:rPr>
                <a:t>(№ 262-З от 5 января 2004 г.)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" name="Прямоугольник 7"/>
          <p:cNvSpPr/>
          <p:nvPr/>
        </p:nvSpPr>
        <p:spPr>
          <a:xfrm>
            <a:off x="1631880" y="5457960"/>
            <a:ext cx="867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c1d22"/>
                </a:solidFill>
                <a:latin typeface="Calibri"/>
                <a:ea typeface="Arial"/>
              </a:rPr>
              <a:t>С целью приведения в соответств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c1d22"/>
                </a:solidFill>
                <a:latin typeface="Calibri"/>
                <a:ea typeface="Arial"/>
              </a:rPr>
              <a:t>нормативно-правовой базой Евразийского экономического сою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2523960" y="3613320"/>
            <a:ext cx="6985080" cy="1389960"/>
          </a:xfrm>
          <a:prstGeom prst="rect">
            <a:avLst/>
          </a:prstGeom>
          <a:solidFill>
            <a:srgbClr val="ffefef"/>
          </a:solidFill>
          <a:ln w="28440">
            <a:solidFill>
              <a:srgbClr val="1735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66"/>
                </a:solidFill>
                <a:latin typeface="Arial"/>
              </a:rPr>
              <a:t>Закон  Республики Беларусь </a:t>
            </a:r>
            <a:br>
              <a:rPr sz="1700"/>
            </a:br>
            <a:r>
              <a:rPr b="1" lang="ru-RU" sz="1700" spc="-1" strike="noStrike">
                <a:solidFill>
                  <a:srgbClr val="003366"/>
                </a:solidFill>
                <a:latin typeface="Arial"/>
              </a:rPr>
              <a:t>«Об оценке соответствия требованиям технических нормативных правовых актов в области технического нормирования и стандартизации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800000"/>
                </a:solidFill>
                <a:latin typeface="Arial"/>
              </a:rPr>
              <a:t>(№ 228-З от 31 декабря 2010 г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971712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8299-927B-451B-AC72-E383C711B94C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8"/>
          <p:cNvSpPr/>
          <p:nvPr/>
        </p:nvSpPr>
        <p:spPr>
          <a:xfrm>
            <a:off x="1703520" y="1352520"/>
            <a:ext cx="86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alibri"/>
                <a:ea typeface="Arial"/>
              </a:rPr>
              <a:t>Внесение доработанных проектов законов в Палату представителей Национального собрания Республики Белару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Заголовок 3"/>
          <p:cNvSpPr/>
          <p:nvPr/>
        </p:nvSpPr>
        <p:spPr>
          <a:xfrm>
            <a:off x="1558800" y="44280"/>
            <a:ext cx="849816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ru-RU" sz="2300" spc="-1" strike="noStrike">
                <a:solidFill>
                  <a:srgbClr val="9c1d22"/>
                </a:solidFill>
                <a:latin typeface="Calibri"/>
              </a:rPr>
              <a:t>УКАЗ ПРЕЗИДЕНТА РЕСПУБЛИКИ БЕЛАРУСЬ от 09.02.2015 № 48 «О МЕРАХ ПО ОБЕСПЕЧЕНИЮ ГОСУДАРСТВЕННОГО КОНТРОЛЯ (НАДЗОРА) ЗА СОБЛЮДЕНИЕМ ТРЕБОВАНИЙ ТЕХНИЧЕСКИХ РЕГЛАМЕНТОВ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Объект 1"/>
          <p:cNvSpPr/>
          <p:nvPr/>
        </p:nvSpPr>
        <p:spPr>
          <a:xfrm>
            <a:off x="1703520" y="1916280"/>
            <a:ext cx="82087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      </a:t>
            </a:r>
            <a:r>
              <a:rPr b="1" i="1" lang="ru-RU" sz="1900" spc="-1" strike="noStrike" u="sng">
                <a:solidFill>
                  <a:srgbClr val="2b2e4b"/>
                </a:solidFill>
                <a:uFillTx/>
                <a:latin typeface="Calibri"/>
              </a:rPr>
              <a:t>Принят в целя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01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повышения эффективности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защиты отечественного рынка от небезопасной и некачественной продукци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01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создания условий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по соблюдению требований технических регламентов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       </a:t>
            </a:r>
            <a:r>
              <a:rPr b="1" i="1" lang="ru-RU" sz="1900" spc="-1" strike="noStrike" u="sng">
                <a:solidFill>
                  <a:srgbClr val="2b2e4b"/>
                </a:solidFill>
                <a:uFillTx/>
                <a:latin typeface="Calibri"/>
              </a:rPr>
              <a:t>Основные положен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01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усиливает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 административную 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ответственность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изготовителей/продавцов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за нарушения требований технических регламентов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01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вводит ответственность органов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по сертификации и испытательных лабораторий за неправомерную выдачу документов об оценке соответств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Прямоугольник 6"/>
          <p:cNvSpPr/>
          <p:nvPr/>
        </p:nvSpPr>
        <p:spPr>
          <a:xfrm>
            <a:off x="7824960" y="1373040"/>
            <a:ext cx="2016000" cy="5806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ступил в силу 01.06.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9" name="Text Box 2"/>
          <p:cNvGrpSpPr/>
          <p:nvPr/>
        </p:nvGrpSpPr>
        <p:grpSpPr>
          <a:xfrm>
            <a:off x="2236680" y="6022800"/>
            <a:ext cx="7151760" cy="688680"/>
            <a:chOff x="2236680" y="6022800"/>
            <a:chExt cx="7151760" cy="688680"/>
          </a:xfrm>
        </p:grpSpPr>
        <p:pic>
          <p:nvPicPr>
            <p:cNvPr id="500" name="Text Box 2" descr=""/>
            <p:cNvPicPr/>
            <p:nvPr/>
          </p:nvPicPr>
          <p:blipFill>
            <a:blip r:embed="rId1"/>
            <a:stretch/>
          </p:blipFill>
          <p:spPr>
            <a:xfrm>
              <a:off x="2236680" y="6022800"/>
              <a:ext cx="715176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2316240" y="6099120"/>
              <a:ext cx="698328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66"/>
                  </a:solidFill>
                  <a:latin typeface="Arial"/>
                </a:rPr>
                <a:t>Утвержден план мероприятий по реализации положений Указа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31880" y="0"/>
            <a:ext cx="8352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Законодательство о рыночном надзоре</a:t>
            </a:r>
            <a:br>
              <a:rPr sz="3200"/>
            </a:br>
            <a:r>
              <a:rPr b="1" lang="ru-RU" sz="1400" spc="-1" strike="noStrike">
                <a:solidFill>
                  <a:srgbClr val="9c1d22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Указ Президента Республики Беларусь от 9.02.2015 г. № 48 «О мерах по обеспечению государственного контроля (надзора) за соблюдением требований технических регламентов»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едусмотрено: концентрация надзорной деятельность в первую очередь в сфере обращения (реализации) продукции; вопросы финансирования приобретения образцов и проведения испытаний продукции при осуществлении рыночного надзора; защитительные меры по недопущению поставок в реализацию продукции с фальсифицированными и (или) необоснованно выданными (принятыми) документами об оценке соответствия;  меры по запрету ввоза опасной продукции, а также порядок взаимодействия уполномоченных органов по осуществлению государственного надзора с таможенными органами Республики Беларусь.</a:t>
            </a:r>
            <a:br>
              <a:rPr sz="1600"/>
            </a:br>
            <a:r>
              <a:rPr b="1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Внесение изменений в Кодекс об административных правонарушениях Республики Беларусь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становление нормы, предусматривающей  усиление ответственности изготовителей (импортеров) за: выпуск (реализацию) продукции, не соответствующей обязательным требованиям технических регламентов; необоснованное принятие документов об оценке соответствия</a:t>
            </a:r>
            <a:br>
              <a:rPr sz="1600"/>
            </a:br>
            <a:r>
              <a:rPr b="1" lang="ru-RU" sz="1600" spc="-1" strike="noStrike">
                <a:solidFill>
                  <a:srgbClr val="003399"/>
                </a:solidFill>
                <a:latin typeface="Arial"/>
                <a:ea typeface="Arial"/>
              </a:rPr>
              <a:t>Постановление Совета Министров Республики Беларусь ″Об уполномоченных (компетентных) органах Республики Беларусь по осуществлению государственного контроля (надзора) за соблюдением требований технических регламентов Таможенного союза″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зделение специальных компетенций в части осуществления госнадзора за соблюдением требований ТР ТС уполномоченными (компетентными) органами</a:t>
            </a:r>
            <a:endParaRPr b="0" lang="en-US" sz="1600" spc="-1" strike="noStrike">
              <a:solidFill>
                <a:srgbClr val="9c1d22"/>
              </a:solidFill>
              <a:latin typeface="Cambri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Рисунок 3" descr=""/>
          <p:cNvPicPr/>
          <p:nvPr/>
        </p:nvPicPr>
        <p:blipFill>
          <a:blip r:embed="rId1"/>
          <a:srcRect l="5717" t="28706" r="5423" b="28889"/>
          <a:stretch/>
        </p:blipFill>
        <p:spPr>
          <a:xfrm>
            <a:off x="7993080" y="1090440"/>
            <a:ext cx="2610000" cy="1762200"/>
          </a:xfrm>
          <a:prstGeom prst="rect">
            <a:avLst/>
          </a:prstGeom>
          <a:ln w="0">
            <a:noFill/>
          </a:ln>
        </p:spPr>
      </p:pic>
      <p:sp>
        <p:nvSpPr>
          <p:cNvPr id="504" name="Прямоугольник 4"/>
          <p:cNvSpPr/>
          <p:nvPr/>
        </p:nvSpPr>
        <p:spPr>
          <a:xfrm>
            <a:off x="1589040" y="2289240"/>
            <a:ext cx="612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Планируется проведение заседаний 29 технических комитетов и подкомите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Прямоугольник 17"/>
          <p:cNvSpPr/>
          <p:nvPr/>
        </p:nvSpPr>
        <p:spPr>
          <a:xfrm>
            <a:off x="1589040" y="1052640"/>
            <a:ext cx="6305760" cy="11318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5-16 октября 2015 год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обмен идеями, опытом, технологиями, проект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3"/>
          <p:cNvSpPr/>
          <p:nvPr/>
        </p:nvSpPr>
        <p:spPr>
          <a:xfrm>
            <a:off x="1716120" y="3068640"/>
            <a:ext cx="6845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106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a50021"/>
                </a:solidFill>
                <a:latin typeface="Calibri"/>
                <a:ea typeface="Calibri"/>
              </a:rPr>
              <a:t>TC 9</a:t>
            </a:r>
            <a:r>
              <a:rPr b="1" lang="ru-RU" sz="1700" spc="-1" strike="noStrike">
                <a:solidFill>
                  <a:srgbClr val="2b2e4b"/>
                </a:solidFill>
                <a:latin typeface="Calibri"/>
                <a:ea typeface="Calibri"/>
              </a:rPr>
              <a:t> - Электрическое оборудование и системы для железных дорог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06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a50021"/>
                </a:solidFill>
                <a:latin typeface="Calibri"/>
                <a:ea typeface="Calibri"/>
              </a:rPr>
              <a:t>TC 22</a:t>
            </a:r>
            <a:r>
              <a:rPr b="1" lang="ru-RU" sz="1700" spc="-1" strike="noStrike">
                <a:solidFill>
                  <a:srgbClr val="a50021"/>
                </a:solidFill>
                <a:latin typeface="Calibri"/>
                <a:ea typeface="Calibri"/>
              </a:rPr>
              <a:t> </a:t>
            </a:r>
            <a:r>
              <a:rPr b="1" lang="ru-RU" sz="1700" spc="-1" strike="noStrike">
                <a:solidFill>
                  <a:srgbClr val="2b2e4b"/>
                </a:solidFill>
                <a:latin typeface="Calibri"/>
                <a:ea typeface="Calibri"/>
              </a:rPr>
              <a:t>- Системы и оборудование силовой электроник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Прямоугольник 7"/>
          <p:cNvSpPr/>
          <p:nvPr/>
        </p:nvSpPr>
        <p:spPr>
          <a:xfrm>
            <a:off x="1720800" y="3745080"/>
            <a:ext cx="8263080" cy="24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a50021"/>
                </a:solidFill>
                <a:latin typeface="Calibri"/>
                <a:ea typeface="Calibri"/>
              </a:rPr>
              <a:t>TC 31</a:t>
            </a:r>
            <a:r>
              <a:rPr b="1" lang="ru-RU" sz="1700" spc="-1" strike="noStrike">
                <a:solidFill>
                  <a:srgbClr val="a50021"/>
                </a:solidFill>
                <a:latin typeface="Calibri"/>
                <a:ea typeface="Calibri"/>
              </a:rPr>
              <a:t> </a:t>
            </a:r>
            <a:r>
              <a:rPr b="1" lang="ru-RU" sz="1700" spc="-1" strike="noStrike">
                <a:solidFill>
                  <a:srgbClr val="2b2e4b"/>
                </a:solidFill>
                <a:latin typeface="Calibri"/>
                <a:ea typeface="Calibri"/>
              </a:rPr>
              <a:t>- Оборудование для взрывоопасных атмосфер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4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a50021"/>
                </a:solidFill>
                <a:latin typeface="Calibri"/>
                <a:ea typeface="Calibri"/>
              </a:rPr>
              <a:t>TC 47</a:t>
            </a:r>
            <a:r>
              <a:rPr b="1" lang="ru-RU" sz="1700" spc="-1" strike="noStrike">
                <a:solidFill>
                  <a:srgbClr val="a50021"/>
                </a:solidFill>
                <a:latin typeface="Calibri"/>
                <a:ea typeface="Calibri"/>
              </a:rPr>
              <a:t> </a:t>
            </a:r>
            <a:r>
              <a:rPr b="1" lang="ru-RU" sz="1700" spc="-1" strike="noStrike">
                <a:solidFill>
                  <a:srgbClr val="2b2e4b"/>
                </a:solidFill>
                <a:latin typeface="Calibri"/>
                <a:ea typeface="Calibri"/>
              </a:rPr>
              <a:t>- Полупроводниковые приборы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4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a50021"/>
                </a:solidFill>
                <a:latin typeface="Calibri"/>
                <a:ea typeface="Calibri"/>
              </a:rPr>
              <a:t>TC </a:t>
            </a:r>
            <a:r>
              <a:rPr b="1" lang="ru-RU" sz="1700" spc="-1" strike="noStrike">
                <a:solidFill>
                  <a:srgbClr val="a50021"/>
                </a:solidFill>
                <a:latin typeface="Calibri"/>
                <a:ea typeface="Calibri"/>
              </a:rPr>
              <a:t>9</a:t>
            </a:r>
            <a:r>
              <a:rPr b="1" lang="en-US" sz="1700" spc="-1" strike="noStrike">
                <a:solidFill>
                  <a:srgbClr val="a50021"/>
                </a:solidFill>
                <a:latin typeface="Calibri"/>
                <a:ea typeface="Calibri"/>
              </a:rPr>
              <a:t>9</a:t>
            </a:r>
            <a:r>
              <a:rPr b="1" lang="ru-RU" sz="1700" spc="-1" strike="noStrike">
                <a:solidFill>
                  <a:srgbClr val="a50021"/>
                </a:solidFill>
                <a:latin typeface="Calibri"/>
                <a:ea typeface="Calibri"/>
              </a:rPr>
              <a:t> </a:t>
            </a:r>
            <a:r>
              <a:rPr b="1" lang="en-US" sz="1700" spc="-1" strike="noStrike">
                <a:solidFill>
                  <a:srgbClr val="2b2e4b"/>
                </a:solidFill>
                <a:latin typeface="Calibri"/>
                <a:ea typeface="Calibri"/>
              </a:rPr>
              <a:t>- </a:t>
            </a:r>
            <a:r>
              <a:rPr b="1" lang="ru-RU" sz="1700" spc="-1" strike="noStrike">
                <a:solidFill>
                  <a:srgbClr val="2b2e4b"/>
                </a:solidFill>
                <a:latin typeface="Calibri"/>
                <a:ea typeface="Calibri"/>
              </a:rPr>
              <a:t>Инженерные системы и монтаж электрических установок с номинальным напряжением свыше 1 кВ переменного тока и 1,5 кВ постоянного тока в части аспектов безопасност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4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a50021"/>
                </a:solidFill>
                <a:latin typeface="Calibri"/>
                <a:ea typeface="Calibri"/>
              </a:rPr>
              <a:t>TC 100</a:t>
            </a:r>
            <a:r>
              <a:rPr b="1" lang="ru-RU" sz="1700" spc="-1" strike="noStrike">
                <a:solidFill>
                  <a:srgbClr val="a50021"/>
                </a:solidFill>
                <a:latin typeface="Calibri"/>
                <a:ea typeface="Calibri"/>
              </a:rPr>
              <a:t> </a:t>
            </a:r>
            <a:r>
              <a:rPr b="1" lang="ru-RU" sz="1700" spc="-1" strike="noStrike">
                <a:solidFill>
                  <a:srgbClr val="2b2e4b"/>
                </a:solidFill>
                <a:latin typeface="Calibri"/>
                <a:ea typeface="Calibri"/>
              </a:rPr>
              <a:t>- Аудио, видео и мультимедийные системы и оборудовани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4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a50021"/>
                </a:solidFill>
                <a:latin typeface="Calibri"/>
                <a:ea typeface="Calibri"/>
              </a:rPr>
              <a:t>TC 108</a:t>
            </a:r>
            <a:r>
              <a:rPr b="1" lang="ru-RU" sz="1700" spc="-1" strike="noStrike">
                <a:solidFill>
                  <a:srgbClr val="a50021"/>
                </a:solidFill>
                <a:latin typeface="Calibri"/>
                <a:ea typeface="Calibri"/>
              </a:rPr>
              <a:t> </a:t>
            </a:r>
            <a:r>
              <a:rPr b="1" lang="ru-RU" sz="1700" spc="-1" strike="noStrike">
                <a:solidFill>
                  <a:srgbClr val="2b2e4b"/>
                </a:solidFill>
                <a:latin typeface="Calibri"/>
                <a:ea typeface="Calibri"/>
              </a:rPr>
              <a:t>- Безопасность электронного оборудования в области аудио/видео, информационных и коммуникационных технологи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Заголовок 1"/>
          <p:cNvSpPr/>
          <p:nvPr/>
        </p:nvSpPr>
        <p:spPr>
          <a:xfrm>
            <a:off x="1919160" y="260280"/>
            <a:ext cx="7559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1d22"/>
                </a:solidFill>
                <a:latin typeface="Calibri"/>
              </a:rPr>
              <a:t>ГЕНЕРАЛЬНАЯ  АССАМБЛЕЯ  МЭ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965376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B99A-02FA-4FDF-8E63-1852CEAD6B72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4"/>
          <p:cNvSpPr/>
          <p:nvPr/>
        </p:nvSpPr>
        <p:spPr>
          <a:xfrm>
            <a:off x="965448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4199-897A-4475-A99D-F7F683CE4B77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1965240" y="2589120"/>
            <a:ext cx="76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00000"/>
                </a:solidFill>
                <a:latin typeface="Calibri"/>
                <a:ea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1558800" y="20016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1d22"/>
                </a:solidFill>
                <a:latin typeface="Calibri"/>
              </a:rPr>
              <a:t>ИЗМЕНЕНИЯ К ЗАКОНУ РЕСПУБЛИКИ БЕЛАРУС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1d22"/>
                </a:solidFill>
                <a:latin typeface="Calibri"/>
              </a:rPr>
              <a:t>«О ТЕХНИЧЕСКОМ НОРМИРОВАНИИ И СТАНДАРТИЗАЦИ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4"/>
          <p:cNvSpPr/>
          <p:nvPr/>
        </p:nvSpPr>
        <p:spPr>
          <a:xfrm>
            <a:off x="1854720" y="10954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1d22"/>
                </a:solidFill>
                <a:latin typeface="Arial"/>
                <a:ea typeface="Arial"/>
              </a:rPr>
              <a:t>В цел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рямоугольник 5"/>
          <p:cNvSpPr/>
          <p:nvPr/>
        </p:nvSpPr>
        <p:spPr>
          <a:xfrm>
            <a:off x="1992240" y="1382760"/>
            <a:ext cx="777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>
              <a:lnSpc>
                <a:spcPct val="100000"/>
              </a:lnSpc>
              <a:spcBef>
                <a:spcPts val="1199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b2e4b"/>
                </a:solidFill>
                <a:latin typeface="Arial"/>
                <a:ea typeface="Arial"/>
              </a:rPr>
              <a:t>приведения Закона в соответствие с международными договорами Республики Беларусь, в частности, Договором о ЕАЭ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рямоугольник 6"/>
          <p:cNvSpPr/>
          <p:nvPr/>
        </p:nvSpPr>
        <p:spPr>
          <a:xfrm>
            <a:off x="2063880" y="4645080"/>
            <a:ext cx="84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>
              <a:lnSpc>
                <a:spcPct val="100000"/>
              </a:lnSpc>
              <a:spcBef>
                <a:spcPts val="601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b2e4b"/>
                </a:solidFill>
                <a:latin typeface="Arial"/>
                <a:ea typeface="Arial"/>
              </a:rPr>
              <a:t>совершенствования Закона с учетом правоприменительной практи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Прямоугольник 9"/>
          <p:cNvSpPr/>
          <p:nvPr/>
        </p:nvSpPr>
        <p:spPr>
          <a:xfrm>
            <a:off x="2279520" y="3084480"/>
            <a:ext cx="8064720" cy="13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9c27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b2e4b"/>
                </a:solidFill>
                <a:latin typeface="Arial"/>
                <a:ea typeface="Arial"/>
              </a:rPr>
              <a:t>Бюджетным кодексом Республики Беларус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9c27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b2e4b"/>
                </a:solidFill>
                <a:latin typeface="Arial"/>
                <a:ea typeface="Arial"/>
              </a:rPr>
              <a:t>Законом Республики Беларусь от 28 октября 2008 года «Об основах административных процедур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9c27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b2e4b"/>
                </a:solidFill>
                <a:latin typeface="Arial"/>
                <a:ea typeface="Arial"/>
              </a:rPr>
              <a:t>Указами Президента Республики Беларусь по вопросам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b2e4b"/>
                </a:solidFill>
                <a:latin typeface="Arial"/>
                <a:ea typeface="Arial"/>
              </a:rPr>
              <a:t>      </a:t>
            </a:r>
            <a:r>
              <a:rPr b="1" i="1" lang="ru-RU" sz="1400" spc="-1" strike="noStrike">
                <a:solidFill>
                  <a:srgbClr val="2b2e4b"/>
                </a:solidFill>
                <a:latin typeface="Arial"/>
                <a:ea typeface="Arial"/>
              </a:rPr>
              <a:t>контрольной (надзорной) деятельности в Республике Беларус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оугольник 10"/>
          <p:cNvSpPr/>
          <p:nvPr/>
        </p:nvSpPr>
        <p:spPr>
          <a:xfrm>
            <a:off x="2279520" y="5022720"/>
            <a:ext cx="7777440" cy="13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9c27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b2e4b"/>
                </a:solidFill>
                <a:latin typeface="Arial"/>
                <a:ea typeface="Arial"/>
              </a:rPr>
              <a:t>уточнение определений отдельных термин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9c27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b2e4b"/>
                </a:solidFill>
                <a:latin typeface="Arial"/>
                <a:ea typeface="Arial"/>
              </a:rPr>
              <a:t>определение юридической силы ТКП и Т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9c27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b2e4b"/>
                </a:solidFill>
                <a:latin typeface="Arial"/>
                <a:ea typeface="Arial"/>
              </a:rPr>
              <a:t>определение статуса перечней ТНПА, взаимосвязанных с техническими регламента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9c27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b2e4b"/>
                </a:solidFill>
                <a:latin typeface="Arial"/>
                <a:ea typeface="Arial"/>
              </a:rPr>
              <a:t>другие вопрос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рямоугольник 11"/>
          <p:cNvSpPr/>
          <p:nvPr/>
        </p:nvSpPr>
        <p:spPr>
          <a:xfrm>
            <a:off x="1992240" y="2500200"/>
            <a:ext cx="806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>
              <a:lnSpc>
                <a:spcPct val="100000"/>
              </a:lnSpc>
              <a:spcBef>
                <a:spcPts val="1199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b2e4b"/>
                </a:solidFill>
                <a:latin typeface="Arial"/>
                <a:ea typeface="Arial"/>
              </a:rPr>
              <a:t>согласования норм Закона с иными законодательными актами Республики Беларус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рямоугольник 12"/>
          <p:cNvSpPr/>
          <p:nvPr/>
        </p:nvSpPr>
        <p:spPr>
          <a:xfrm>
            <a:off x="2567160" y="1947960"/>
            <a:ext cx="748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b2e4b"/>
                </a:solidFill>
                <a:latin typeface="Arial"/>
                <a:ea typeface="Arial"/>
              </a:rPr>
              <a:t>определен приоритет технических регламентов Союза по отношению к актам национального законодатель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971712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3E49-E886-4814-8B70-BC76FBB1ADFA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3"/>
          <p:cNvSpPr/>
          <p:nvPr/>
        </p:nvSpPr>
        <p:spPr>
          <a:xfrm>
            <a:off x="1523880" y="141120"/>
            <a:ext cx="864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1d22"/>
                </a:solidFill>
                <a:latin typeface="Calibri"/>
              </a:rPr>
              <a:t>ПЛАНИРУЕМЫЕ ИЗМЕНЕНИЯ </a:t>
            </a:r>
            <a:br>
              <a:rPr sz="2400"/>
            </a:br>
            <a:r>
              <a:rPr b="1" lang="ru-RU" sz="2400" spc="-1" strike="noStrike">
                <a:solidFill>
                  <a:srgbClr val="9c1d22"/>
                </a:solidFill>
                <a:latin typeface="Calibri"/>
              </a:rPr>
              <a:t>ЗАКОНА РЕСПУБЛИКИ БЕЛАРУ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1d22"/>
                </a:solidFill>
                <a:latin typeface="Calibri"/>
              </a:rPr>
              <a:t>«О ТЕХНИЧЕСКОМ НОРМИРОВАНИИ И СТАНДАРТИЗАЦИ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оугольник 4"/>
          <p:cNvSpPr/>
          <p:nvPr/>
        </p:nvSpPr>
        <p:spPr>
          <a:xfrm>
            <a:off x="1797120" y="1484280"/>
            <a:ext cx="804384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1d22"/>
                </a:solidFill>
                <a:latin typeface="Calibri"/>
                <a:ea typeface="Arial"/>
              </a:rPr>
              <a:t>Установление положений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касающихся технических регламент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взаимосвязанных в техническими регламентами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технических кодексов установившейся практики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и государственных стандар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применения технических кодексов установившейся практи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применения государственных стандар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общегосударственных классификаторов Республики Белару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полномочий органов государственного управления в сфере технического нормирования и стандартиз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технических комитетов по стандартиз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технического нормирования и стандартизации в военной сфе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надзора за соблюдением требований технических регламент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971712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BE38-E210-4B47-B03D-3EC85AC21172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1487520" y="150840"/>
            <a:ext cx="849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c1d22"/>
                </a:solidFill>
                <a:latin typeface="Calibri"/>
              </a:rPr>
              <a:t>ТЕХНИЧЕСКИЕ РЕГЛАМЕНТЫ РЕСПУБЛИКИ БЕЛАРУС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21"/>
          <p:cNvSpPr/>
          <p:nvPr/>
        </p:nvSpPr>
        <p:spPr>
          <a:xfrm>
            <a:off x="1811160" y="1197000"/>
            <a:ext cx="784872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9280" indent="-1619280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1d22"/>
                </a:solidFill>
                <a:latin typeface="Calibri"/>
              </a:rPr>
              <a:t>ТР 2007/003/BY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Единицы измерений, допущенные к применению на</a:t>
            </a:r>
            <a:br>
              <a:rPr sz="1800"/>
            </a:b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территории Республики Белару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619280" indent="-1619280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1d22"/>
                </a:solidFill>
                <a:latin typeface="Calibri"/>
              </a:rPr>
              <a:t>ТР 2008/009/</a:t>
            </a:r>
            <a:r>
              <a:rPr b="1" lang="en-US" sz="1800" spc="-1" strike="noStrike">
                <a:solidFill>
                  <a:srgbClr val="9c1d22"/>
                </a:solidFill>
                <a:latin typeface="Calibri"/>
              </a:rPr>
              <a:t>BY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Банковская деятельность. Информационные технологии.</a:t>
            </a:r>
            <a:br>
              <a:rPr sz="1800"/>
            </a:b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Информационная совместимость программных и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программно-технических средств платежной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ист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619280" indent="-1619280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1d22"/>
                </a:solidFill>
                <a:latin typeface="Calibri"/>
              </a:rPr>
              <a:t>ТР 2008/012/</a:t>
            </a:r>
            <a:r>
              <a:rPr b="1" lang="en-US" sz="1800" spc="-1" strike="noStrike">
                <a:solidFill>
                  <a:srgbClr val="9c1d22"/>
                </a:solidFill>
                <a:latin typeface="Calibri"/>
              </a:rPr>
              <a:t>BY</a:t>
            </a:r>
            <a:r>
              <a:rPr b="1" lang="ru-RU" sz="18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еавтоматические весоизмерительные приборы.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Основные треб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619280" indent="-1619280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1d22"/>
                </a:solidFill>
                <a:latin typeface="Calibri"/>
              </a:rPr>
              <a:t>ТР 2009/013/</a:t>
            </a:r>
            <a:r>
              <a:rPr b="1" lang="en-US" sz="1800" spc="-1" strike="noStrike">
                <a:solidFill>
                  <a:srgbClr val="9c1d22"/>
                </a:solidFill>
                <a:latin typeface="Calibri"/>
              </a:rPr>
              <a:t>BY</a:t>
            </a:r>
            <a:r>
              <a:rPr b="1" lang="ru-RU" sz="18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дания и сооружения, строительные материалы и изделия.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Безопас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619280" indent="-1619280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1d22"/>
                </a:solidFill>
                <a:latin typeface="Calibri"/>
              </a:rPr>
              <a:t>ТР 2010/014/BY</a:t>
            </a:r>
            <a:r>
              <a:rPr b="1" lang="ru-RU" sz="18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Минеральные удобрения. Безопас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619280" indent="-1619280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1d22"/>
                </a:solidFill>
                <a:latin typeface="Calibri"/>
              </a:rPr>
              <a:t>ТР 2010/025/</a:t>
            </a:r>
            <a:r>
              <a:rPr b="1" lang="en-US" sz="1800" spc="-1" strike="noStrike">
                <a:solidFill>
                  <a:srgbClr val="9c1d22"/>
                </a:solidFill>
                <a:latin typeface="Calibri"/>
              </a:rPr>
              <a:t>BY</a:t>
            </a:r>
            <a:r>
              <a:rPr b="1" lang="ru-RU" sz="18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Корма и кормовые добавки. Безопаснос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619280" indent="-1619280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1d22"/>
                </a:solidFill>
                <a:latin typeface="Calibri"/>
              </a:rPr>
              <a:t>ТР 2013/027/</a:t>
            </a:r>
            <a:r>
              <a:rPr b="1" lang="en-US" sz="1800" spc="-1" strike="noStrike">
                <a:solidFill>
                  <a:srgbClr val="9c1d22"/>
                </a:solidFill>
                <a:latin typeface="Calibri"/>
              </a:rPr>
              <a:t>BY</a:t>
            </a:r>
            <a:r>
              <a:rPr b="1" lang="ru-RU" sz="18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Информационные технологии. Средства защиты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информации. Информационная безопаснос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оугольник 1"/>
          <p:cNvSpPr/>
          <p:nvPr/>
        </p:nvSpPr>
        <p:spPr>
          <a:xfrm>
            <a:off x="1992240" y="765000"/>
            <a:ext cx="2808360" cy="368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Действуют - 7 ТР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BY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971712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1246-4FCF-4AE1-850F-704F12F3A263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2349360" y="558972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Calibri"/>
              </a:rPr>
              <a:t>ВЕДЕТСЯ РАЗРАБОТК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Прямоугольник 7"/>
          <p:cNvSpPr/>
          <p:nvPr/>
        </p:nvSpPr>
        <p:spPr>
          <a:xfrm>
            <a:off x="1847880" y="5950080"/>
            <a:ext cx="52513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1d22"/>
                </a:solidFill>
                <a:latin typeface="Calibri"/>
              </a:rPr>
              <a:t>ТР </a:t>
            </a:r>
            <a:r>
              <a:rPr b="1" lang="en-US" sz="1800" spc="-1" strike="noStrike">
                <a:solidFill>
                  <a:srgbClr val="9c1d22"/>
                </a:solidFill>
                <a:latin typeface="Calibri"/>
              </a:rPr>
              <a:t>BY</a:t>
            </a:r>
            <a:r>
              <a:rPr b="1" lang="ru-RU" sz="18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Энергоэффективность зда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1d22"/>
                </a:solidFill>
                <a:latin typeface="Calibri"/>
              </a:rPr>
              <a:t>ТР </a:t>
            </a:r>
            <a:r>
              <a:rPr b="1" lang="en-US" sz="1800" spc="-1" strike="noStrike">
                <a:solidFill>
                  <a:srgbClr val="9c1d22"/>
                </a:solidFill>
                <a:latin typeface="Calibri"/>
              </a:rPr>
              <a:t>BY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редства электросвязи. Безопас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1579680" y="44280"/>
            <a:ext cx="8562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rmAutofit fontScale="95000"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c1d22"/>
                </a:solidFill>
                <a:latin typeface="Calibri"/>
              </a:rPr>
              <a:t>ТЕХНИЧЕСКИЕ РЕГЛАМЕНТЫ ТАМОЖЕННОГО СОЮЗ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Прямоугольник 1"/>
          <p:cNvSpPr/>
          <p:nvPr/>
        </p:nvSpPr>
        <p:spPr>
          <a:xfrm>
            <a:off x="1682640" y="476280"/>
            <a:ext cx="58532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Arial"/>
                <a:ea typeface="Arial"/>
              </a:rPr>
              <a:t>Вступившие </a:t>
            </a:r>
            <a:r>
              <a:rPr b="1" i="1" lang="en-US" sz="1600" spc="-1" strike="noStrike">
                <a:solidFill>
                  <a:srgbClr val="800000"/>
                </a:solidFill>
                <a:latin typeface="Arial"/>
                <a:ea typeface="Arial"/>
              </a:rPr>
              <a:t>3</a:t>
            </a:r>
            <a:r>
              <a:rPr b="1" i="1" lang="ru-RU" sz="1600" spc="-1" strike="noStrike">
                <a:solidFill>
                  <a:srgbClr val="800000"/>
                </a:solidFill>
                <a:latin typeface="Arial"/>
                <a:ea typeface="Arial"/>
              </a:rPr>
              <a:t>4 ТР ТС устанавливают требования к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13"/>
          <p:cNvSpPr/>
          <p:nvPr/>
        </p:nvSpPr>
        <p:spPr>
          <a:xfrm>
            <a:off x="1687680" y="793800"/>
            <a:ext cx="8296200" cy="744480"/>
          </a:xfrm>
          <a:prstGeom prst="rect">
            <a:avLst/>
          </a:prstGeom>
          <a:solidFill>
            <a:srgbClr val="e0ebf6"/>
          </a:solidFill>
          <a:ln w="28440">
            <a:solidFill>
              <a:srgbClr val="1735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0" tIns="46440" bIns="46440" anchor="t">
            <a:normAutofit/>
          </a:bodyPr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пиротехническим изделия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средствам индивидуальной защиты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игрушка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3"/>
          <p:cNvSpPr/>
          <p:nvPr/>
        </p:nvSpPr>
        <p:spPr>
          <a:xfrm>
            <a:off x="1687680" y="1773360"/>
            <a:ext cx="8296200" cy="1555560"/>
          </a:xfrm>
          <a:prstGeom prst="rect">
            <a:avLst/>
          </a:prstGeom>
          <a:solidFill>
            <a:srgbClr val="e0ebf6"/>
          </a:solidFill>
          <a:ln w="28440">
            <a:solidFill>
              <a:srgbClr val="1735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0" tIns="46440" bIns="46440" anchor="t">
            <a:noAutofit/>
          </a:bodyPr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машинам и оборудованию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аппаратам, работающим на </a:t>
            </a: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газообразном топлив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низковольтному оборудовани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лифта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Прямоугольник 22"/>
          <p:cNvSpPr/>
          <p:nvPr/>
        </p:nvSpPr>
        <p:spPr>
          <a:xfrm>
            <a:off x="4440240" y="1812960"/>
            <a:ext cx="3054240" cy="15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электромагнитной совместимости </a:t>
            </a: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технических  средств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оборудованию для работы во взрывоопасных средах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пищевой продукци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маркировке пищевой </a:t>
            </a: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продукци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Прямоугольник 20"/>
          <p:cNvSpPr/>
          <p:nvPr/>
        </p:nvSpPr>
        <p:spPr>
          <a:xfrm>
            <a:off x="1687680" y="3603600"/>
            <a:ext cx="8296200" cy="1434240"/>
          </a:xfrm>
          <a:prstGeom prst="rect">
            <a:avLst/>
          </a:prstGeom>
          <a:solidFill>
            <a:srgbClr val="e0ebf6"/>
          </a:solidFill>
          <a:ln w="28440">
            <a:solidFill>
              <a:srgbClr val="1735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0" tIns="46440" bIns="46440" anchor="t">
            <a:spAutoFit/>
          </a:bodyPr>
          <a:p>
            <a:pPr marL="285840" indent="-285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маломерным суда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оборудованию, работающему </a:t>
            </a: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под избыточным давление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смазочным материала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молоку и молочной продукци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мясу и мясной продукци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2" name="TextBox 36"/>
          <p:cNvGrpSpPr/>
          <p:nvPr/>
        </p:nvGrpSpPr>
        <p:grpSpPr>
          <a:xfrm>
            <a:off x="8217000" y="463680"/>
            <a:ext cx="1450800" cy="547560"/>
            <a:chOff x="8217000" y="463680"/>
            <a:chExt cx="1450800" cy="547560"/>
          </a:xfrm>
        </p:grpSpPr>
        <p:pic>
          <p:nvPicPr>
            <p:cNvPr id="223" name="TextBox 36" descr=""/>
            <p:cNvPicPr/>
            <p:nvPr/>
          </p:nvPicPr>
          <p:blipFill>
            <a:blip r:embed="rId1"/>
            <a:stretch/>
          </p:blipFill>
          <p:spPr>
            <a:xfrm>
              <a:off x="8217000" y="463680"/>
              <a:ext cx="145080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8280360" y="519120"/>
              <a:ext cx="1330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12 год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" name="TextBox 37"/>
          <p:cNvGrpSpPr/>
          <p:nvPr/>
        </p:nvGrpSpPr>
        <p:grpSpPr>
          <a:xfrm>
            <a:off x="7729560" y="1500120"/>
            <a:ext cx="1450800" cy="547920"/>
            <a:chOff x="7729560" y="1500120"/>
            <a:chExt cx="1450800" cy="547920"/>
          </a:xfrm>
        </p:grpSpPr>
        <p:pic>
          <p:nvPicPr>
            <p:cNvPr id="226" name="TextBox 37" descr=""/>
            <p:cNvPicPr/>
            <p:nvPr/>
          </p:nvPicPr>
          <p:blipFill>
            <a:blip r:embed="rId2"/>
            <a:stretch/>
          </p:blipFill>
          <p:spPr>
            <a:xfrm>
              <a:off x="7729560" y="1500120"/>
              <a:ext cx="145080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7791480" y="1557360"/>
              <a:ext cx="13287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13 год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TextBox 38"/>
          <p:cNvGrpSpPr/>
          <p:nvPr/>
        </p:nvGrpSpPr>
        <p:grpSpPr>
          <a:xfrm>
            <a:off x="7296120" y="3230640"/>
            <a:ext cx="1451160" cy="542880"/>
            <a:chOff x="7296120" y="3230640"/>
            <a:chExt cx="1451160" cy="542880"/>
          </a:xfrm>
        </p:grpSpPr>
        <p:pic>
          <p:nvPicPr>
            <p:cNvPr id="229" name="TextBox 38" descr=""/>
            <p:cNvPicPr/>
            <p:nvPr/>
          </p:nvPicPr>
          <p:blipFill>
            <a:blip r:embed="rId3"/>
            <a:stretch/>
          </p:blipFill>
          <p:spPr>
            <a:xfrm>
              <a:off x="7296120" y="3230640"/>
              <a:ext cx="14511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359480" y="3284640"/>
              <a:ext cx="13287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14 год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Прямоугольник 30"/>
          <p:cNvSpPr/>
          <p:nvPr/>
        </p:nvSpPr>
        <p:spPr>
          <a:xfrm>
            <a:off x="7535880" y="1846440"/>
            <a:ext cx="24573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пищевым добавка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специализированной пищевой продукци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соковой продукци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масложировой продукци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зерну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Прямоугольник 40"/>
          <p:cNvSpPr/>
          <p:nvPr/>
        </p:nvSpPr>
        <p:spPr>
          <a:xfrm>
            <a:off x="4656240" y="793800"/>
            <a:ext cx="3519360" cy="7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продукции для детей и подростков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парфюмерно-косметической продукци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продукции легкой промышленност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41"/>
          <p:cNvSpPr/>
          <p:nvPr/>
        </p:nvSpPr>
        <p:spPr>
          <a:xfrm>
            <a:off x="8112240" y="793800"/>
            <a:ext cx="1861920" cy="7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упаковк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бензину и други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видам топлив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оугольник 42"/>
          <p:cNvSpPr/>
          <p:nvPr/>
        </p:nvSpPr>
        <p:spPr>
          <a:xfrm>
            <a:off x="4745160" y="3645000"/>
            <a:ext cx="2359080" cy="14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взрывчатым веществам и изделиям на их основ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мебельной продукци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железнодорожному </a:t>
            </a: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подвижному состав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7104240" y="3700440"/>
            <a:ext cx="298908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высокоскоростному </a:t>
            </a: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железнодорожному транспорту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инфраструктуре </a:t>
            </a: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железнодорожного </a:t>
            </a: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транспорт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1"/>
          <p:cNvSpPr/>
          <p:nvPr/>
        </p:nvSpPr>
        <p:spPr>
          <a:xfrm>
            <a:off x="1655640" y="5229360"/>
            <a:ext cx="8315280" cy="576000"/>
          </a:xfrm>
          <a:prstGeom prst="rect">
            <a:avLst/>
          </a:prstGeom>
          <a:solidFill>
            <a:srgbClr val="e0ebf6"/>
          </a:solidFill>
          <a:ln w="28440">
            <a:solidFill>
              <a:srgbClr val="1735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0" tIns="46440" bIns="46440" anchor="t">
            <a:normAutofit/>
          </a:bodyPr>
          <a:p>
            <a:pPr marL="285840" indent="-285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16"/>
          <p:cNvSpPr/>
          <p:nvPr/>
        </p:nvSpPr>
        <p:spPr>
          <a:xfrm>
            <a:off x="5889600" y="5256360"/>
            <a:ext cx="395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сельскохозяйственным и лесохозяйственным тракторам и прицепам к ним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TextBox 46"/>
          <p:cNvGrpSpPr/>
          <p:nvPr/>
        </p:nvGrpSpPr>
        <p:grpSpPr>
          <a:xfrm>
            <a:off x="6576840" y="4925880"/>
            <a:ext cx="1451160" cy="547920"/>
            <a:chOff x="6576840" y="4925880"/>
            <a:chExt cx="1451160" cy="547920"/>
          </a:xfrm>
        </p:grpSpPr>
        <p:pic>
          <p:nvPicPr>
            <p:cNvPr id="239" name="TextBox 46" descr=""/>
            <p:cNvPicPr/>
            <p:nvPr/>
          </p:nvPicPr>
          <p:blipFill>
            <a:blip r:embed="rId4"/>
            <a:stretch/>
          </p:blipFill>
          <p:spPr>
            <a:xfrm>
              <a:off x="6576840" y="4925880"/>
              <a:ext cx="14511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638760" y="4984920"/>
              <a:ext cx="13287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15 год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Прямоугольник 1"/>
          <p:cNvSpPr/>
          <p:nvPr/>
        </p:nvSpPr>
        <p:spPr>
          <a:xfrm>
            <a:off x="1847880" y="549756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автомобильным дорога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Прямоугольник 1"/>
          <p:cNvSpPr/>
          <p:nvPr/>
        </p:nvSpPr>
        <p:spPr>
          <a:xfrm>
            <a:off x="1852560" y="5283360"/>
            <a:ext cx="352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колесным транспортным средства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972360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657B-5720-4D79-BF44-2F36FD885165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1"/>
          <p:cNvSpPr/>
          <p:nvPr/>
        </p:nvSpPr>
        <p:spPr>
          <a:xfrm>
            <a:off x="1739880" y="5950080"/>
            <a:ext cx="57247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Calibri"/>
              </a:rPr>
              <a:t>Вступающий ТР ТС устанавливает требования к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оугольник 1"/>
          <p:cNvSpPr/>
          <p:nvPr/>
        </p:nvSpPr>
        <p:spPr>
          <a:xfrm>
            <a:off x="1655640" y="6302520"/>
            <a:ext cx="8315280" cy="433080"/>
          </a:xfrm>
          <a:prstGeom prst="rect">
            <a:avLst/>
          </a:prstGeom>
          <a:solidFill>
            <a:srgbClr val="e0ebf6"/>
          </a:solidFill>
          <a:ln w="28440">
            <a:solidFill>
              <a:srgbClr val="1735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0" tIns="46440" bIns="46440" anchor="t">
            <a:normAutofit/>
          </a:bodyPr>
          <a:p>
            <a:pPr marL="285840" indent="-285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TextBox 25"/>
          <p:cNvGrpSpPr/>
          <p:nvPr/>
        </p:nvGrpSpPr>
        <p:grpSpPr>
          <a:xfrm>
            <a:off x="7601040" y="6010200"/>
            <a:ext cx="1450800" cy="542880"/>
            <a:chOff x="7601040" y="6010200"/>
            <a:chExt cx="1450800" cy="542880"/>
          </a:xfrm>
        </p:grpSpPr>
        <p:pic>
          <p:nvPicPr>
            <p:cNvPr id="247" name="TextBox 25" descr=""/>
            <p:cNvPicPr/>
            <p:nvPr/>
          </p:nvPicPr>
          <p:blipFill>
            <a:blip r:embed="rId5"/>
            <a:stretch/>
          </p:blipFill>
          <p:spPr>
            <a:xfrm>
              <a:off x="7601040" y="6010200"/>
              <a:ext cx="14508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7662960" y="6064200"/>
              <a:ext cx="13287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16 год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9" name="Прямоугольник 1"/>
          <p:cNvSpPr/>
          <p:nvPr/>
        </p:nvSpPr>
        <p:spPr>
          <a:xfrm>
            <a:off x="1887480" y="6375240"/>
            <a:ext cx="352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табачной продук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8"/>
          <p:cNvSpPr/>
          <p:nvPr/>
        </p:nvSpPr>
        <p:spPr>
          <a:xfrm>
            <a:off x="2135160" y="4869000"/>
            <a:ext cx="7273800" cy="158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1871640" y="947880"/>
            <a:ext cx="8040600" cy="916920"/>
          </a:xfrm>
          <a:prstGeom prst="rect">
            <a:avLst/>
          </a:prstGeom>
          <a:solidFill>
            <a:srgbClr val="ff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окол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5 000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государственных стандартов Беларуси –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СТБ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более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20 000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ежгосударственных стандартов –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ГОСТ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более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100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авил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ЕЭК О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1703520" y="189000"/>
            <a:ext cx="8111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ФОНД СТАНДАРТОВ  РЕСПУБЛИКИ </a:t>
            </a:r>
            <a:r>
              <a:rPr b="1" lang="en-US" sz="32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БЕЛАРУ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5"/>
          <p:cNvSpPr/>
          <p:nvPr/>
        </p:nvSpPr>
        <p:spPr>
          <a:xfrm>
            <a:off x="4008600" y="4859280"/>
            <a:ext cx="398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c1d22"/>
                </a:solidFill>
                <a:latin typeface="Calibri"/>
                <a:ea typeface="Arial"/>
              </a:rPr>
              <a:t>Эффективная поддерж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2279520" y="5176800"/>
            <a:ext cx="41036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300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экспортного потенциа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300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овременного технического уровн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300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оздания новых производств и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одук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Заголовок 1"/>
          <p:cNvSpPr/>
          <p:nvPr/>
        </p:nvSpPr>
        <p:spPr>
          <a:xfrm>
            <a:off x="1836720" y="1844640"/>
            <a:ext cx="80042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Calibri"/>
              </a:rPr>
              <a:t>ГАРМОНИЗАЦИЯ  ГОСУДАРСТВЕННЫХ  СТАНДАРТОВ  СТБ </a:t>
            </a:r>
            <a:br>
              <a:rPr sz="1900"/>
            </a:br>
            <a:r>
              <a:rPr b="1" lang="ru-RU" sz="1900" spc="-1" strike="noStrike">
                <a:solidFill>
                  <a:srgbClr val="800000"/>
                </a:solidFill>
                <a:latin typeface="Calibri"/>
              </a:rPr>
              <a:t>С  МЕЖДУНАРОДНЫМИ  И  ЕВРОПЕЙСКИМИ  СТАНДАРТАМ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352600" y="2649600"/>
          <a:ext cx="6983640" cy="2003400"/>
        </p:xfrm>
        <a:graphic>
          <a:graphicData uri="http://schemas.openxmlformats.org/drawingml/2006/table">
            <a:tbl>
              <a:tblPr/>
              <a:tblGrid>
                <a:gridCol w="4896000"/>
                <a:gridCol w="2087640"/>
              </a:tblGrid>
              <a:tr h="274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Машино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c1d22"/>
                          </a:solidFill>
                          <a:latin typeface="Arial"/>
                        </a:rPr>
                        <a:t>7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</a:tr>
              <a:tr h="274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Электротехника, радиоэлектроника и связ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c1d22"/>
                          </a:solidFill>
                          <a:latin typeface="Arial"/>
                        </a:rPr>
                        <a:t>7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</a:tr>
              <a:tr h="354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Химическая и нефтехимическая проду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c1d22"/>
                          </a:solidFill>
                          <a:latin typeface="Arial"/>
                        </a:rPr>
                        <a:t>6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</a:tr>
              <a:tr h="274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Строительные материалы и издел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c1d22"/>
                          </a:solidFill>
                          <a:latin typeface="Arial"/>
                        </a:rPr>
                        <a:t>6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</a:tr>
              <a:tr h="549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Лесная и деревообрабатывающая промышл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c1d22"/>
                          </a:solidFill>
                          <a:latin typeface="Arial"/>
                        </a:rPr>
                        <a:t>6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</a:tr>
              <a:tr h="274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Сельское хозяйство и продоволь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c1d22"/>
                          </a:solidFill>
                          <a:latin typeface="Arial"/>
                        </a:rPr>
                        <a:t>2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</a:tr>
            </a:tbl>
          </a:graphicData>
        </a:graphic>
      </p:graphicFrame>
      <p:sp>
        <p:nvSpPr>
          <p:cNvPr id="257" name="Rectangle 8"/>
          <p:cNvSpPr/>
          <p:nvPr/>
        </p:nvSpPr>
        <p:spPr>
          <a:xfrm>
            <a:off x="1947240" y="581040"/>
            <a:ext cx="53715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c1d22"/>
                </a:solidFill>
                <a:latin typeface="Calibri"/>
                <a:ea typeface="Arial"/>
              </a:rPr>
              <a:t>Действует всего около 27 000, в том числ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6456240" y="5373720"/>
            <a:ext cx="280836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300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внедрения инновац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300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щиты интересов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отреб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97124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062C-1C8E-4E2E-ABE3-18211C682152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4"/>
          <p:cNvSpPr/>
          <p:nvPr/>
        </p:nvSpPr>
        <p:spPr>
          <a:xfrm>
            <a:off x="1523880" y="0"/>
            <a:ext cx="84600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ГОСУДАРСТВЕННЫЕ  СТАНДАР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РЕСПУБЛИКИ  БЕЛАРУ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971712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108A-4B06-4D4B-8B3A-EE54D82AFA3F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2135160" y="2205000"/>
            <a:ext cx="5004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бъекты стандартизации:</a:t>
            </a: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машины и оборуд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атомная энергет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бытовые электроприбор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источники пит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информационные техн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пожарная техника и оборуд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средства противопожарной защи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материалы для дорожного строитель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лесоматериал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ткани и текстильные материал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пищевая продук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космет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бензин и дизельное топли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2351160" y="907920"/>
            <a:ext cx="68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Запланировано к разработке в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2015 г. более 340 тем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: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1774800" y="119700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8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236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государственных стандартов (в том числе 129 ГОС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8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1d22"/>
                </a:solidFill>
                <a:latin typeface="Arial"/>
                <a:ea typeface="Arial"/>
              </a:rPr>
              <a:t>72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 изменения к стандартам (в том числе 4 к ГОС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6167520" y="237348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194 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государственных стандарта будут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гармонизированы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с международными и европейскими стандарт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1"/>
          <p:cNvSpPr/>
          <p:nvPr/>
        </p:nvSpPr>
        <p:spPr>
          <a:xfrm>
            <a:off x="1847880" y="6205680"/>
            <a:ext cx="76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9c1d2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1d22"/>
                </a:solidFill>
                <a:latin typeface="Arial"/>
                <a:ea typeface="Arial"/>
              </a:rPr>
              <a:t>125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  ГОСТ  к техническим регламентам Таможенного союза</a:t>
            </a: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1:41:51Z</dcterms:created>
  <dc:creator>client906_10</dc:creator>
  <dc:description/>
  <dc:language>en-US</dc:language>
  <cp:lastModifiedBy>pwd</cp:lastModifiedBy>
  <cp:lastPrinted>2014-06-20T14:49:55Z</cp:lastPrinted>
  <dcterms:modified xsi:type="dcterms:W3CDTF">2015-06-17T06:08:26Z</dcterms:modified>
  <cp:revision>346</cp:revision>
  <dc:subject/>
  <dc:title>Презентация PowerPoint</dc:title>
</cp:coreProperties>
</file>